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9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12.png" ContentType="image/png"/>
  <Override PartName="/ppt/media/image36.png" ContentType="image/png"/>
  <Override PartName="/ppt/media/image32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3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25A5-0502-4C97-B19E-C65C5FFA72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305F-3A2E-4913-8905-B0D011C992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FD5B-A0FF-4A73-BB1D-690C9D0CF9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3DCC-C5DD-4BBF-B200-D1300A56F6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A4AD-2139-442E-A229-2C5FC72C8D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F065-015D-4E82-A5B7-2B2534E40F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1C1-3933-439F-9612-0E3AAA71D3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61F0-8D57-4027-8F89-4661D8F10D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C69C-73AF-4AA2-A176-02912DF9E7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193-3CDF-4474-B6D2-E4C5379261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2E6B-93D8-4D66-AE15-4CA92CD2DC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4802-D1F7-456A-B931-3B21E27DA3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DDCE-B13F-4236-9902-9A161CDB5C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A9B-4D25-4712-8859-F4FFE97203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2B65-F829-41D9-BD17-07A9E2B13E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A1D2-19A4-4FC0-AB9B-4E1608EF1F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C10-AC83-493B-90E2-BAD44010FE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3D8C-E88C-444E-94E1-14F7544721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7EA7-48A6-4352-99DB-DF075A6583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0A89-70DB-4C8B-8963-CD181E53F0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0170-01A9-41E7-9B9A-42AD5F396B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C7F-6984-4C4C-8280-BC77B155D9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335E-744B-422C-9503-FDF2876A8E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1219320" y="720720"/>
            <a:ext cx="48765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4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DC46-D049-4D8A-90CC-D52984D31F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"/>
          <p:cNvSpPr/>
          <p:nvPr/>
        </p:nvSpPr>
        <p:spPr>
          <a:xfrm>
            <a:off x="1219320" y="720720"/>
            <a:ext cx="48765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4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0100-8730-47AE-BC6F-525AC22F1B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5259-2DF7-420C-A09B-9892379D2F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5293-4FC7-4A83-BFF4-9E215FF8BF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F7F-B32E-459A-BB52-BE2A366FD9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7693-3FB3-48D2-8B8B-C016CCC97C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9F09-9119-416D-8480-0317785570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F076-11CC-41EC-9F71-24326F8801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4380-2B92-4ED8-BB95-615DD8782D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6CCC-A344-4065-89F4-5EE48131A2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"/>
          <p:cNvSpPr/>
          <p:nvPr/>
        </p:nvSpPr>
        <p:spPr>
          <a:xfrm>
            <a:off x="1219320" y="720720"/>
            <a:ext cx="48765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4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B36E-1A22-4AEF-A67C-C35A362AB4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"/>
          <p:cNvSpPr/>
          <p:nvPr/>
        </p:nvSpPr>
        <p:spPr>
          <a:xfrm>
            <a:off x="1219320" y="720720"/>
            <a:ext cx="48765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4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6D08-3948-4B23-B412-024526354B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89DC-F58B-45C1-B346-A64B077C20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927C-44A2-4BDE-A81B-43DD529F86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8045-F7E9-43C7-B97D-8823F10C12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1399-DBE3-4F96-8A46-D9F0A05090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D43A-3725-40FE-A19B-F310E3343B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W_5.1_EW2010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7286-BF94-4338-A8E2-0A1D0E1077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DFEB-E2F3-4DB9-977E-801BCC7BEF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73E1-DE69-4AB0-9442-FA0F9A618E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D27-3232-4DDF-9295-54ECCC6170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F66-CFA7-42F9-B20D-77543D6D51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FB2-8E72-4666-AFC4-8D764DB809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A20-085C-483C-82E6-AC85D969D6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 The EyesWeb Expressive Gesture Library have been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ainly created by Gualtiero Volpe and Antonio Camurri (InfoMus Lab). It is continuously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B9DC-409C-42FC-8D0A-71BA0E8139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DBB-B5F5-42CD-8BC6-13A65E8054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7EBE-2309-48C9-B10E-81F96733D6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1219320" y="720720"/>
            <a:ext cx="48765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4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DA1-0155-4255-8B62-5F7F350CD0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"/>
          <p:cNvSpPr/>
          <p:nvPr/>
        </p:nvSpPr>
        <p:spPr>
          <a:xfrm>
            <a:off x="1219320" y="720720"/>
            <a:ext cx="48765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44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050D-477F-4D85-BBC4-1F0CF818BC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D72-9856-41BD-B404-CEAF3AB4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243-F378-4BA1-BA42-661DE7CC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192-38D5-435C-BFCA-9DFC3F71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4D1-A3BD-4CFD-92C1-481C3890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F335-0401-4B10-A783-55CFAC64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8F1B-A8C9-4DE1-939F-0D1DCCE4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7CDA-40DB-46F0-B672-70B97ACB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8A60-280F-4FFB-B0A2-C81401D3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3E5B-4ACD-4468-B96C-831ACA0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DA6-3F88-4225-B232-D28B6B5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A0EE-23D3-460A-898D-53872A1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8E5-CFB8-4F15-B660-A1D1CF0D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A39D-A060-4642-9DCB-78CF687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7E77-9BFE-4A66-AC83-4BBECC1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4C66-B74E-4782-A6B2-A4DF4403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9998-A662-487B-8CE4-658C68F2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BF8D-07E4-4C78-A59F-76BDBCA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E56-B948-4533-8794-7B558AD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3C4-D598-4148-BCBD-D9131DA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3AB-2FB8-4F47-B096-6DE4718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C74-3DB7-433F-932D-36F2D6C2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B41-BEB5-4B08-A041-6105A3A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816-B5FB-429C-B092-328053FB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0A4-0F1C-4A4B-85D5-3FF0945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07FE-065B-4901-82A6-4BFB2B99D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16B-2021-4579-9620-D625E1D71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mus.org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yw.free.fr/" TargetMode="External"/><Relationship Id="rId2" Type="http://schemas.openxmlformats.org/officeDocument/2006/relationships/hyperlink" Target="http://www.biomobius.org/" TargetMode="External"/><Relationship Id="rId3" Type="http://schemas.openxmlformats.org/officeDocument/2006/relationships/hyperlink" Target="http://www.sarc.qub.ac.uk/~ngillian/" TargetMode="External"/><Relationship Id="rId4" Type="http://schemas.openxmlformats.org/officeDocument/2006/relationships/hyperlink" Target="http://www.4shared.com/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6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0160" y="315720"/>
            <a:ext cx="697248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EyesWeb XMI Open Platform for Multimod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43120" y="4182840"/>
            <a:ext cx="650088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ald Glowinski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Mus Lab &amp; Casa Paganini, University of Genova (It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ald.glowinski@unig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asaPaganini_Logo"/>
          <p:cNvPicPr/>
          <p:nvPr/>
        </p:nvPicPr>
        <p:blipFill>
          <a:blip r:embed="rId1"/>
          <a:stretch/>
        </p:blipFill>
        <p:spPr>
          <a:xfrm>
            <a:off x="250920" y="260280"/>
            <a:ext cx="846000" cy="4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nfoMus La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77920" y="271440"/>
            <a:ext cx="554040" cy="43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Unige_04"/>
          <p:cNvPicPr/>
          <p:nvPr/>
        </p:nvPicPr>
        <p:blipFill>
          <a:blip r:embed="rId4"/>
          <a:stretch/>
        </p:blipFill>
        <p:spPr>
          <a:xfrm>
            <a:off x="187200" y="773280"/>
            <a:ext cx="490680" cy="49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dist_01"/>
          <p:cNvPicPr/>
          <p:nvPr/>
        </p:nvPicPr>
        <p:blipFill>
          <a:blip r:embed="rId5"/>
          <a:stretch/>
        </p:blipFill>
        <p:spPr>
          <a:xfrm>
            <a:off x="722160" y="752400"/>
            <a:ext cx="495360" cy="517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01960" y="243000"/>
            <a:ext cx="5817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yesWeb Week [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8-12 February, 20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6"/>
          <a:stretch/>
        </p:blipFill>
        <p:spPr>
          <a:xfrm>
            <a:off x="2836800" y="4510080"/>
            <a:ext cx="284652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Graphical Development Environment (G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ttore 1 9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1"/>
          <a:stretch/>
        </p:blipFill>
        <p:spPr>
          <a:xfrm>
            <a:off x="1857240" y="3876840"/>
            <a:ext cx="7286760" cy="2638440"/>
          </a:xfrm>
          <a:prstGeom prst="rect">
            <a:avLst/>
          </a:prstGeom>
          <a:ln w="0">
            <a:noFill/>
          </a:ln>
        </p:spPr>
      </p:pic>
      <p:sp>
        <p:nvSpPr>
          <p:cNvPr id="192" name="Rettangolo 12"/>
          <p:cNvSpPr/>
          <p:nvPr/>
        </p:nvSpPr>
        <p:spPr>
          <a:xfrm>
            <a:off x="0" y="1428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13"/>
          <p:cNvSpPr/>
          <p:nvPr/>
        </p:nvSpPr>
        <p:spPr>
          <a:xfrm>
            <a:off x="0" y="2971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of linked bl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C:\Documents and Settings\Donald\Desktop\EWweek-TUTORIALBeginners\EW-img\block-simple.png"/>
          <p:cNvPicPr/>
          <p:nvPr/>
        </p:nvPicPr>
        <p:blipFill>
          <a:blip r:embed="rId2"/>
          <a:stretch/>
        </p:blipFill>
        <p:spPr>
          <a:xfrm>
            <a:off x="5138640" y="1609560"/>
            <a:ext cx="1095480" cy="1124280"/>
          </a:xfrm>
          <a:prstGeom prst="rect">
            <a:avLst/>
          </a:prstGeom>
          <a:ln w="0">
            <a:noFill/>
          </a:ln>
        </p:spPr>
      </p:pic>
      <p:sp>
        <p:nvSpPr>
          <p:cNvPr id="195" name="CasellaDiTesto 16"/>
          <p:cNvSpPr/>
          <p:nvPr/>
        </p:nvSpPr>
        <p:spPr>
          <a:xfrm>
            <a:off x="4692600" y="934920"/>
            <a:ext cx="276552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arameter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Connettore 2 25"/>
          <p:cNvCxnSpPr/>
          <p:nvPr/>
        </p:nvCxnSpPr>
        <p:spPr>
          <a:xfrm flipH="1">
            <a:off x="5686200" y="1456200"/>
            <a:ext cx="54360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CasellaDiTesto 16"/>
          <p:cNvSpPr/>
          <p:nvPr/>
        </p:nvSpPr>
        <p:spPr>
          <a:xfrm>
            <a:off x="6378480" y="2687760"/>
            <a:ext cx="276552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utput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17"/>
          <p:cNvSpPr/>
          <p:nvPr/>
        </p:nvSpPr>
        <p:spPr>
          <a:xfrm>
            <a:off x="3301920" y="2583000"/>
            <a:ext cx="276552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put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Connettore 2 25"/>
          <p:cNvCxnSpPr/>
          <p:nvPr/>
        </p:nvCxnSpPr>
        <p:spPr>
          <a:xfrm flipH="1" flipV="1">
            <a:off x="6343200" y="2285280"/>
            <a:ext cx="48672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nettore 2 25"/>
          <p:cNvCxnSpPr/>
          <p:nvPr/>
        </p:nvCxnSpPr>
        <p:spPr>
          <a:xfrm flipV="1">
            <a:off x="4610160" y="2256840"/>
            <a:ext cx="619920" cy="324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Graphical Development Environment (G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809640" y="1614600"/>
            <a:ext cx="775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yesWeb environment includ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logs of block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can be used through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ag-and-dro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 to create new pat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s functionalities roughl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hematic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processing functions (image, audio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/ contro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EW-demo.avi" descr=""/>
          <p:cNvPicPr/>
          <p:nvPr/>
        </p:nvPicPr>
        <p:blipFill>
          <a:blip r:embed="rId1"/>
          <a:stretch/>
        </p:blipFill>
        <p:spPr>
          <a:xfrm>
            <a:off x="1495440" y="1371600"/>
            <a:ext cx="6421320" cy="5138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"/>
          <p:cNvSpPr/>
          <p:nvPr/>
        </p:nvSpPr>
        <p:spPr>
          <a:xfrm>
            <a:off x="31284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g-and-drop </a:t>
            </a: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Graphical Development Environment (GDE) - 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Graphical Development Environment (G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nettore 1 9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tangolo 12"/>
          <p:cNvSpPr/>
          <p:nvPr/>
        </p:nvSpPr>
        <p:spPr>
          <a:xfrm>
            <a:off x="0" y="1276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ock and 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++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Documents and Settings\Chiara\Desktop\blobk-inside.bmp"/>
          <p:cNvPicPr/>
          <p:nvPr/>
        </p:nvPicPr>
        <p:blipFill>
          <a:blip r:embed="rId1"/>
          <a:stretch/>
        </p:blipFill>
        <p:spPr>
          <a:xfrm>
            <a:off x="2852640" y="3344760"/>
            <a:ext cx="4991040" cy="3122640"/>
          </a:xfrm>
          <a:prstGeom prst="rect">
            <a:avLst/>
          </a:prstGeom>
          <a:ln w="0">
            <a:noFill/>
          </a:ln>
        </p:spPr>
      </p:pic>
      <p:sp>
        <p:nvSpPr>
          <p:cNvPr id="210" name="Uguale 11"/>
          <p:cNvSpPr/>
          <p:nvPr/>
        </p:nvSpPr>
        <p:spPr>
          <a:xfrm>
            <a:off x="5514840" y="2467080"/>
            <a:ext cx="928800" cy="6444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5743440" y="1000080"/>
            <a:ext cx="3114720" cy="1127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C:\Documents and Settings\Donald\Desktop\EWweek-TUTORIALBeginners\EW-img\block-simple.png"/>
          <p:cNvPicPr/>
          <p:nvPr/>
        </p:nvPicPr>
        <p:blipFill>
          <a:blip r:embed="rId3"/>
          <a:stretch/>
        </p:blipFill>
        <p:spPr>
          <a:xfrm>
            <a:off x="4052880" y="1009800"/>
            <a:ext cx="10954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" descr="C:\Documents and Settings\Donald\Desktop\EWweek-TUTORIALBeginners\EW-img\patch2.png"/>
          <p:cNvPicPr/>
          <p:nvPr/>
        </p:nvPicPr>
        <p:blipFill>
          <a:blip r:embed="rId1"/>
          <a:stretch/>
        </p:blipFill>
        <p:spPr>
          <a:xfrm>
            <a:off x="1263600" y="1631880"/>
            <a:ext cx="7216920" cy="4511880"/>
          </a:xfrm>
          <a:prstGeom prst="rect">
            <a:avLst/>
          </a:prstGeom>
          <a:ln w="0">
            <a:noFill/>
          </a:ln>
        </p:spPr>
      </p:pic>
      <p:sp>
        <p:nvSpPr>
          <p:cNvPr id="214" name="CasellaDiTesto 3"/>
          <p:cNvSpPr/>
          <p:nvPr/>
        </p:nvSpPr>
        <p:spPr>
          <a:xfrm>
            <a:off x="5037120" y="2697120"/>
            <a:ext cx="1987560" cy="520560"/>
          </a:xfrm>
          <a:prstGeom prst="rect">
            <a:avLst/>
          </a:prstGeom>
          <a:solidFill>
            <a:srgbClr val="ffffff">
              <a:alpha val="5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sellaDiTesto 5"/>
          <p:cNvSpPr/>
          <p:nvPr/>
        </p:nvSpPr>
        <p:spPr>
          <a:xfrm>
            <a:off x="0" y="2367000"/>
            <a:ext cx="2514600" cy="520560"/>
          </a:xfrm>
          <a:prstGeom prst="rect">
            <a:avLst/>
          </a:prstGeom>
          <a:solidFill>
            <a:srgbClr val="ffffff">
              <a:alpha val="8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atalog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Graphical Development Environment (G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nettore 2 12"/>
          <p:cNvCxnSpPr/>
          <p:nvPr/>
        </p:nvCxnSpPr>
        <p:spPr>
          <a:xfrm>
            <a:off x="431640" y="3106800"/>
            <a:ext cx="718560" cy="5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8" name="CasellaDiTesto 13"/>
          <p:cNvSpPr/>
          <p:nvPr/>
        </p:nvSpPr>
        <p:spPr>
          <a:xfrm>
            <a:off x="0" y="6335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arch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Connettore 2 14"/>
          <p:cNvCxnSpPr/>
          <p:nvPr/>
        </p:nvCxnSpPr>
        <p:spPr>
          <a:xfrm flipV="1">
            <a:off x="412560" y="5858640"/>
            <a:ext cx="1013400" cy="531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0" name="CasellaDiTesto 16"/>
          <p:cNvSpPr/>
          <p:nvPr/>
        </p:nvSpPr>
        <p:spPr>
          <a:xfrm>
            <a:off x="3292560" y="6164280"/>
            <a:ext cx="307476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essag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sellaDiTesto 17"/>
          <p:cNvSpPr/>
          <p:nvPr/>
        </p:nvSpPr>
        <p:spPr>
          <a:xfrm>
            <a:off x="0" y="3478320"/>
            <a:ext cx="2610000" cy="520560"/>
          </a:xfrm>
          <a:prstGeom prst="rect">
            <a:avLst/>
          </a:prstGeom>
          <a:solidFill>
            <a:srgbClr val="ffffff">
              <a:alpha val="4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operties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sellaDiTesto 18"/>
          <p:cNvSpPr/>
          <p:nvPr/>
        </p:nvSpPr>
        <p:spPr>
          <a:xfrm>
            <a:off x="6605640" y="6334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avigation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Connettore 2 19"/>
          <p:cNvCxnSpPr/>
          <p:nvPr/>
        </p:nvCxnSpPr>
        <p:spPr>
          <a:xfrm>
            <a:off x="457200" y="4543200"/>
            <a:ext cx="629280" cy="2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Connettore 2 22"/>
          <p:cNvCxnSpPr/>
          <p:nvPr/>
        </p:nvCxnSpPr>
        <p:spPr>
          <a:xfrm flipV="1">
            <a:off x="7045200" y="5857560"/>
            <a:ext cx="136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5" name="Connettore 2 25"/>
          <p:cNvCxnSpPr/>
          <p:nvPr/>
        </p:nvCxnSpPr>
        <p:spPr>
          <a:xfrm flipH="1" flipV="1">
            <a:off x="4158360" y="5556960"/>
            <a:ext cx="19800" cy="467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Catalog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846000" y="825480"/>
            <a:ext cx="774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locks are presented in a collection of libraries called ‘catalog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6"/>
          <p:cNvSpPr/>
          <p:nvPr/>
        </p:nvSpPr>
        <p:spPr>
          <a:xfrm>
            <a:off x="1194840" y="583416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op leve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tangolo 7"/>
          <p:cNvSpPr/>
          <p:nvPr/>
        </p:nvSpPr>
        <p:spPr>
          <a:xfrm>
            <a:off x="5554800" y="574848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ing the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C:\Documents and Settings\Donald\Desktop\catalog.png"/>
          <p:cNvPicPr/>
          <p:nvPr/>
        </p:nvPicPr>
        <p:blipFill>
          <a:blip r:embed="rId1"/>
          <a:stretch/>
        </p:blipFill>
        <p:spPr>
          <a:xfrm>
            <a:off x="1038240" y="1973160"/>
            <a:ext cx="3438360" cy="3810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C:\Documents and Settings\Donald\Desktop\catalog2.png"/>
          <p:cNvPicPr/>
          <p:nvPr/>
        </p:nvPicPr>
        <p:blipFill>
          <a:blip r:embed="rId2"/>
          <a:stretch/>
        </p:blipFill>
        <p:spPr>
          <a:xfrm>
            <a:off x="5546880" y="2046240"/>
            <a:ext cx="27525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Catalog View (search 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846000" y="825480"/>
            <a:ext cx="774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‘search’ window option is available to help the user find a particular blo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tangolo 7"/>
          <p:cNvSpPr/>
          <p:nvPr/>
        </p:nvSpPr>
        <p:spPr>
          <a:xfrm>
            <a:off x="4860000" y="617868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ar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073160" y="1924200"/>
            <a:ext cx="35701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roperties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863640" y="754200"/>
            <a:ext cx="775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perties view enables various settings to be configured. Two sheets can be accessed via their respective tab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04920" y="3165480"/>
            <a:ext cx="3251160" cy="2843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572000" y="3186000"/>
            <a:ext cx="3208320" cy="3070440"/>
          </a:xfrm>
          <a:prstGeom prst="rect">
            <a:avLst/>
          </a:prstGeom>
          <a:ln w="0">
            <a:noFill/>
          </a:ln>
        </p:spPr>
      </p:pic>
      <p:sp>
        <p:nvSpPr>
          <p:cNvPr id="243" name="Rettangolo 8"/>
          <p:cNvSpPr/>
          <p:nvPr/>
        </p:nvSpPr>
        <p:spPr>
          <a:xfrm>
            <a:off x="210960" y="22305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heet : to set in the properties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tangolo 10"/>
          <p:cNvSpPr/>
          <p:nvPr/>
        </p:nvSpPr>
        <p:spPr>
          <a:xfrm>
            <a:off x="4572000" y="22240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(iption) sheet : to see the description, license, developer credits, etc. of th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roperties View (Params she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605040" y="728640"/>
            <a:ext cx="53881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setting names are provided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values can be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earance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on, orientation,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gnature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, Catalog, Lab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ow Sync In/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ing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,Activate,Run level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yncI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ttings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npu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62080" y="704880"/>
            <a:ext cx="3195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roperties View (Params she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605040" y="728640"/>
            <a:ext cx="53881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setting names are provided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values can be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earance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on, orientation,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gnature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, Catalog, Lab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ow Sync In/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ing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,Activate,Run level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yncI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ttings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npu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62080" y="704880"/>
            <a:ext cx="3195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r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nettore 1 11"/>
          <p:cNvSpPr/>
          <p:nvPr/>
        </p:nvSpPr>
        <p:spPr>
          <a:xfrm>
            <a:off x="571680" y="6215040"/>
            <a:ext cx="807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74680" y="934920"/>
            <a:ext cx="73454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utorial on EyesWeb draws inspiration from the follow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eyw.free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biomobiu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www.sarc.qub.ac.uk/~ngillia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orary link for download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yesWeb patch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4share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n: eyesweb2010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wd : infomus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roperties View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Descr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(iption) she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341520" y="741240"/>
            <a:ext cx="53895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econd sheet of the properties view contains administrative information about the block. This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bel, clas, inputs, outputs,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m plus, catalog, full path, text description of block and pi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about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ftware li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7"/>
          <p:cNvSpPr/>
          <p:nvPr/>
        </p:nvSpPr>
        <p:spPr>
          <a:xfrm>
            <a:off x="296640" y="627048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0" y="892080"/>
            <a:ext cx="313380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C:\Documents and Settings\Donald\Desktop\EWweek-TUTORIALBeginners\EW-img\patch2.png"/>
          <p:cNvPicPr/>
          <p:nvPr/>
        </p:nvPicPr>
        <p:blipFill>
          <a:blip r:embed="rId1"/>
          <a:stretch/>
        </p:blipFill>
        <p:spPr>
          <a:xfrm>
            <a:off x="1120680" y="2346480"/>
            <a:ext cx="7216920" cy="45115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atch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846000" y="825480"/>
            <a:ext cx="77486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atch view, drag the blocks from the catalogs in order to link them together and create a p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tangolo 11"/>
          <p:cNvSpPr/>
          <p:nvPr/>
        </p:nvSpPr>
        <p:spPr>
          <a:xfrm>
            <a:off x="2952720" y="2895480"/>
            <a:ext cx="5477040" cy="2819520"/>
          </a:xfrm>
          <a:prstGeom prst="rect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atch View (blo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712800" y="2654280"/>
            <a:ext cx="77486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put pi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the data arriving at the block from another block, in order for the block to process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put pi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data being sent from the block to some other block, after process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ameter pi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information or data arriving at the block, which affects the processing work carried out by the blo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2" descr="C:\Documents and Settings\Donald\Desktop\EWweek-TUTORIALBeginners\EW-img\block-simple.png"/>
          <p:cNvPicPr/>
          <p:nvPr/>
        </p:nvPicPr>
        <p:blipFill>
          <a:blip r:embed="rId1"/>
          <a:stretch/>
        </p:blipFill>
        <p:spPr>
          <a:xfrm>
            <a:off x="3909960" y="1581120"/>
            <a:ext cx="1095480" cy="1123920"/>
          </a:xfrm>
          <a:prstGeom prst="rect">
            <a:avLst/>
          </a:prstGeom>
          <a:ln w="0">
            <a:noFill/>
          </a:ln>
        </p:spPr>
      </p:pic>
      <p:sp>
        <p:nvSpPr>
          <p:cNvPr id="267" name="CasellaDiTesto 16"/>
          <p:cNvSpPr/>
          <p:nvPr/>
        </p:nvSpPr>
        <p:spPr>
          <a:xfrm>
            <a:off x="3463920" y="906480"/>
            <a:ext cx="276552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arameter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Connettore 2 25"/>
          <p:cNvCxnSpPr/>
          <p:nvPr/>
        </p:nvCxnSpPr>
        <p:spPr>
          <a:xfrm flipH="1">
            <a:off x="4457520" y="1427760"/>
            <a:ext cx="54360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" name="CasellaDiTesto 12"/>
          <p:cNvSpPr/>
          <p:nvPr/>
        </p:nvSpPr>
        <p:spPr>
          <a:xfrm>
            <a:off x="5149800" y="2658960"/>
            <a:ext cx="276552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utput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llaDiTesto 13"/>
          <p:cNvSpPr/>
          <p:nvPr/>
        </p:nvSpPr>
        <p:spPr>
          <a:xfrm>
            <a:off x="2073240" y="2554200"/>
            <a:ext cx="276552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put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nettore 2 25"/>
          <p:cNvCxnSpPr/>
          <p:nvPr/>
        </p:nvCxnSpPr>
        <p:spPr>
          <a:xfrm flipH="1" flipV="1">
            <a:off x="5114520" y="2257200"/>
            <a:ext cx="4867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Connettore 2 25"/>
          <p:cNvCxnSpPr/>
          <p:nvPr/>
        </p:nvCxnSpPr>
        <p:spPr>
          <a:xfrm flipV="1">
            <a:off x="3381480" y="2228400"/>
            <a:ext cx="619920" cy="3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atch View (linking b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579600" y="3492360"/>
            <a:ext cx="77482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s can be linked to one another by piping the output pin of one block to the input or parameter pin of another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click menu 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ocate (to immediately retrieve the block’s catalog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C:\Documents and Settings\Donald\Desktop\EWweek-TUTORIALBeginners\EW-img\patch2.png"/>
          <p:cNvPicPr/>
          <p:nvPr/>
        </p:nvPicPr>
        <p:blipFill>
          <a:blip r:embed="rId1"/>
          <a:srcRect l="28029" t="22093" r="27239" b="32306"/>
          <a:stretch/>
        </p:blipFill>
        <p:spPr>
          <a:xfrm>
            <a:off x="2286000" y="1343160"/>
            <a:ext cx="4429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C:\Documents and Settings\Donald\Desktop\EWweek-TUTORIALBeginners\EW-img\patch2.png"/>
          <p:cNvPicPr/>
          <p:nvPr/>
        </p:nvPicPr>
        <p:blipFill>
          <a:blip r:embed="rId1"/>
          <a:stretch/>
        </p:blipFill>
        <p:spPr>
          <a:xfrm>
            <a:off x="1263600" y="974880"/>
            <a:ext cx="7216920" cy="4511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Additional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sellaDiTesto 13"/>
          <p:cNvSpPr/>
          <p:nvPr/>
        </p:nvSpPr>
        <p:spPr>
          <a:xfrm>
            <a:off x="0" y="5021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atus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Connettore 2 14"/>
          <p:cNvCxnSpPr/>
          <p:nvPr/>
        </p:nvCxnSpPr>
        <p:spPr>
          <a:xfrm flipV="1">
            <a:off x="412920" y="5457240"/>
            <a:ext cx="84528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1" name="CasellaDiTesto 16"/>
          <p:cNvSpPr/>
          <p:nvPr/>
        </p:nvSpPr>
        <p:spPr>
          <a:xfrm>
            <a:off x="3206880" y="5364000"/>
            <a:ext cx="307476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essag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llaDiTesto 18"/>
          <p:cNvSpPr/>
          <p:nvPr/>
        </p:nvSpPr>
        <p:spPr>
          <a:xfrm>
            <a:off x="6634080" y="5533920"/>
            <a:ext cx="30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avigation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Connettore 2 22"/>
          <p:cNvCxnSpPr/>
          <p:nvPr/>
        </p:nvCxnSpPr>
        <p:spPr>
          <a:xfrm flipV="1">
            <a:off x="7045200" y="5200200"/>
            <a:ext cx="136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Connettore 2 25"/>
          <p:cNvCxnSpPr/>
          <p:nvPr/>
        </p:nvCxnSpPr>
        <p:spPr>
          <a:xfrm flipH="1" flipV="1">
            <a:off x="4158360" y="4900320"/>
            <a:ext cx="19800" cy="467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5" name="Rettangolo 14"/>
          <p:cNvSpPr/>
          <p:nvPr/>
        </p:nvSpPr>
        <p:spPr>
          <a:xfrm>
            <a:off x="0" y="584208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to quickly find out information about a block or a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onnettore 1 1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tangolo 17"/>
          <p:cNvSpPr/>
          <p:nvPr/>
        </p:nvSpPr>
        <p:spPr>
          <a:xfrm>
            <a:off x="6496200" y="6058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big p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llaDiTesto 16"/>
          <p:cNvSpPr/>
          <p:nvPr/>
        </p:nvSpPr>
        <p:spPr>
          <a:xfrm>
            <a:off x="4416480" y="573120"/>
            <a:ext cx="3074760" cy="5205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pen file t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Connettore 2 14"/>
          <p:cNvCxnSpPr/>
          <p:nvPr/>
        </p:nvCxnSpPr>
        <p:spPr>
          <a:xfrm flipH="1">
            <a:off x="4085640" y="941760"/>
            <a:ext cx="1143720" cy="515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Menu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tangolo 11"/>
          <p:cNvSpPr/>
          <p:nvPr/>
        </p:nvSpPr>
        <p:spPr>
          <a:xfrm>
            <a:off x="1143000" y="806400"/>
            <a:ext cx="7562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DE offers the usual menus to the us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Donald\Desktop\menubar.png"/>
          <p:cNvPicPr/>
          <p:nvPr/>
        </p:nvPicPr>
        <p:blipFill>
          <a:blip r:embed="rId1"/>
          <a:stretch/>
        </p:blipFill>
        <p:spPr>
          <a:xfrm>
            <a:off x="600120" y="1389240"/>
            <a:ext cx="806112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ttangolo 1"/>
          <p:cNvSpPr/>
          <p:nvPr/>
        </p:nvSpPr>
        <p:spPr>
          <a:xfrm>
            <a:off x="2286000" y="12286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rogramming languages a data type is 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 piece of data that tells the computer (and the programmer) something about what kind of data is being dealt wi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EyesWeb dat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onnettore 1 4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914560" y="1038240"/>
            <a:ext cx="2667240" cy="20001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e Patch View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data type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ttangolo 7"/>
          <p:cNvSpPr/>
          <p:nvPr/>
        </p:nvSpPr>
        <p:spPr>
          <a:xfrm>
            <a:off x="1761120" y="1254240"/>
            <a:ext cx="2341800" cy="52056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bidden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712800" y="2654280"/>
            <a:ext cx="77486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 output of one block is of a different type to the input pin to which you are trying to link it, a ‘forbidden’ icon will appear and the operation will not compl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ree"/>
          <p:cNvSpPr/>
          <p:nvPr/>
        </p:nvSpPr>
        <p:spPr>
          <a:xfrm>
            <a:off x="3246480" y="14050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ound"/>
          <p:cNvSpPr/>
          <p:nvPr/>
        </p:nvSpPr>
        <p:spPr>
          <a:xfrm>
            <a:off x="5886360" y="146376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hoto"/>
          <p:cNvSpPr/>
          <p:nvPr/>
        </p:nvSpPr>
        <p:spPr>
          <a:xfrm>
            <a:off x="549360" y="182232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26"/>
          <p:cNvSpPr/>
          <p:nvPr/>
        </p:nvSpPr>
        <p:spPr>
          <a:xfrm>
            <a:off x="719280" y="0"/>
            <a:ext cx="8221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alibri"/>
              </a:rPr>
              <a:t>EyesWeb XMI </a:t>
            </a:r>
            <a:r>
              <a:rPr b="0" lang="en-GB" sz="4400" spc="-1" strike="noStrike">
                <a:solidFill>
                  <a:srgbClr val="2d2d8a"/>
                </a:solidFill>
                <a:latin typeface="Calibri"/>
              </a:rPr>
              <a:t>– Data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ree"/>
          <p:cNvSpPr/>
          <p:nvPr/>
        </p:nvSpPr>
        <p:spPr>
          <a:xfrm>
            <a:off x="3246480" y="14050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ound"/>
          <p:cNvSpPr/>
          <p:nvPr/>
        </p:nvSpPr>
        <p:spPr>
          <a:xfrm>
            <a:off x="5886360" y="146376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hoto"/>
          <p:cNvSpPr/>
          <p:nvPr/>
        </p:nvSpPr>
        <p:spPr>
          <a:xfrm>
            <a:off x="549360" y="182232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26"/>
          <p:cNvSpPr/>
          <p:nvPr/>
        </p:nvSpPr>
        <p:spPr>
          <a:xfrm>
            <a:off x="719280" y="0"/>
            <a:ext cx="8221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alibri"/>
              </a:rPr>
              <a:t>EyesWeb XMI </a:t>
            </a:r>
            <a:r>
              <a:rPr b="0" lang="en-GB" sz="4400" spc="-1" strike="noStrike">
                <a:solidFill>
                  <a:srgbClr val="2d2d8a"/>
                </a:solidFill>
                <a:latin typeface="Calibri"/>
              </a:rPr>
              <a:t>– Data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tangolo arrotondato 6"/>
          <p:cNvSpPr/>
          <p:nvPr/>
        </p:nvSpPr>
        <p:spPr>
          <a:xfrm>
            <a:off x="5743440" y="1474920"/>
            <a:ext cx="2114640" cy="188568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ttangolo arrotondato 7"/>
          <p:cNvSpPr/>
          <p:nvPr/>
        </p:nvSpPr>
        <p:spPr>
          <a:xfrm>
            <a:off x="3182760" y="1461960"/>
            <a:ext cx="2113200" cy="188604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ttangolo arrotondato 8"/>
          <p:cNvSpPr/>
          <p:nvPr/>
        </p:nvSpPr>
        <p:spPr>
          <a:xfrm>
            <a:off x="379440" y="1581120"/>
            <a:ext cx="2114640" cy="188604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ttangolo arrotondato 9"/>
          <p:cNvSpPr/>
          <p:nvPr/>
        </p:nvSpPr>
        <p:spPr>
          <a:xfrm>
            <a:off x="3425760" y="4118040"/>
            <a:ext cx="755640" cy="844560"/>
          </a:xfrm>
          <a:custGeom>
            <a:avLst/>
            <a:gdLst>
              <a:gd name="textAreaLeft" fmla="*/ 110520 w 755640"/>
              <a:gd name="textAreaRight" fmla="*/ 645120 w 755640"/>
              <a:gd name="textAreaTop" fmla="*/ 110520 h 844560"/>
              <a:gd name="textAreaBottom" fmla="*/ 734040 h 844560"/>
            </a:gdLst>
            <a:ahLst/>
            <a:rect l="textAreaLeft" t="textAreaTop" r="textAreaRight" b="textAreaBottom"/>
            <a:pathLst>
              <a:path w="21600" h="24141">
                <a:moveTo>
                  <a:pt x="10800" y="0"/>
                </a:moveTo>
                <a:arcTo wR="10800" hR="10800" stAng="16200000" swAng="-5400000"/>
                <a:lnTo>
                  <a:pt x="0" y="13341"/>
                </a:lnTo>
                <a:arcTo wR="10800" hR="10800" stAng="10800000" swAng="-5400000"/>
                <a:lnTo>
                  <a:pt x="10800" y="241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tangolo arrotondato 10"/>
          <p:cNvSpPr/>
          <p:nvPr/>
        </p:nvSpPr>
        <p:spPr>
          <a:xfrm>
            <a:off x="3456000" y="5226120"/>
            <a:ext cx="711360" cy="755640"/>
          </a:xfrm>
          <a:custGeom>
            <a:avLst/>
            <a:gdLst>
              <a:gd name="textAreaLeft" fmla="*/ 92880 w 711360"/>
              <a:gd name="textAreaRight" fmla="*/ 618480 w 711360"/>
              <a:gd name="textAreaTop" fmla="*/ 92880 h 755640"/>
              <a:gd name="textAreaBottom" fmla="*/ 662760 h 755640"/>
            </a:gdLst>
            <a:ahLst/>
            <a:rect l="textAreaLeft" t="textAreaTop" r="textAreaRight" b="textAreaBottom"/>
            <a:pathLst>
              <a:path w="21600" h="22944">
                <a:moveTo>
                  <a:pt x="9656" y="0"/>
                </a:moveTo>
                <a:arcTo wR="9656" hR="9656" stAng="16200000" swAng="-5400000"/>
                <a:lnTo>
                  <a:pt x="0" y="13288"/>
                </a:lnTo>
                <a:arcTo wR="9656" hR="9656" stAng="10800000" swAng="-5400000"/>
                <a:lnTo>
                  <a:pt x="11944" y="22944"/>
                </a:lnTo>
                <a:arcTo wR="9656" hR="9656" stAng="5400000" swAng="-5400000"/>
                <a:lnTo>
                  <a:pt x="21600" y="9656"/>
                </a:lnTo>
                <a:arcTo wR="9656" hR="9656" stAng="0" swAng="-5400000"/>
                <a:close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460760" y="4205160"/>
            <a:ext cx="44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lectronic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494240" y="528804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ur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ttore 1 11"/>
          <p:cNvSpPr/>
          <p:nvPr/>
        </p:nvSpPr>
        <p:spPr>
          <a:xfrm>
            <a:off x="571680" y="6348240"/>
            <a:ext cx="807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098720" y="592200"/>
            <a:ext cx="73450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al Development Environment (G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/O (input/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c in/Sync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/ contro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Analysis (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p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26"/>
          <p:cNvSpPr/>
          <p:nvPr/>
        </p:nvSpPr>
        <p:spPr>
          <a:xfrm>
            <a:off x="719280" y="0"/>
            <a:ext cx="8221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alibri"/>
              </a:rPr>
              <a:t>EyesWeb XMI </a:t>
            </a:r>
            <a:r>
              <a:rPr b="0" lang="en-GB" sz="4400" spc="-1" strike="noStrike">
                <a:solidFill>
                  <a:srgbClr val="2d2d8a"/>
                </a:solidFill>
                <a:latin typeface="Calibri"/>
              </a:rPr>
              <a:t>– Data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ttangolo 3"/>
          <p:cNvSpPr/>
          <p:nvPr/>
        </p:nvSpPr>
        <p:spPr>
          <a:xfrm>
            <a:off x="2363760" y="15001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nvolves sett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the data, such as what values that data can take on,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operations may be performed on tha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ree"/>
          <p:cNvSpPr/>
          <p:nvPr/>
        </p:nvSpPr>
        <p:spPr>
          <a:xfrm>
            <a:off x="3246480" y="14050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ound"/>
          <p:cNvSpPr/>
          <p:nvPr/>
        </p:nvSpPr>
        <p:spPr>
          <a:xfrm>
            <a:off x="5886360" y="146376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hoto"/>
          <p:cNvSpPr/>
          <p:nvPr/>
        </p:nvSpPr>
        <p:spPr>
          <a:xfrm>
            <a:off x="549360" y="182232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26"/>
          <p:cNvSpPr/>
          <p:nvPr/>
        </p:nvSpPr>
        <p:spPr>
          <a:xfrm>
            <a:off x="719280" y="0"/>
            <a:ext cx="8221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alibri"/>
              </a:rPr>
              <a:t>EyesWeb XMI </a:t>
            </a:r>
            <a:r>
              <a:rPr b="0" lang="en-GB" sz="4400" spc="-1" strike="noStrike">
                <a:solidFill>
                  <a:srgbClr val="2d2d8a"/>
                </a:solidFill>
                <a:latin typeface="Calibri"/>
              </a:rPr>
              <a:t>– Data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ttangolo arrotondato 6"/>
          <p:cNvSpPr/>
          <p:nvPr/>
        </p:nvSpPr>
        <p:spPr>
          <a:xfrm>
            <a:off x="5743440" y="1474920"/>
            <a:ext cx="2114640" cy="188568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tangolo arrotondato 7"/>
          <p:cNvSpPr/>
          <p:nvPr/>
        </p:nvSpPr>
        <p:spPr>
          <a:xfrm>
            <a:off x="3182760" y="1461960"/>
            <a:ext cx="2113200" cy="188604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ttangolo arrotondato 8"/>
          <p:cNvSpPr/>
          <p:nvPr/>
        </p:nvSpPr>
        <p:spPr>
          <a:xfrm>
            <a:off x="379440" y="1581120"/>
            <a:ext cx="2114640" cy="188604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ttangolo arrotondato 9"/>
          <p:cNvSpPr/>
          <p:nvPr/>
        </p:nvSpPr>
        <p:spPr>
          <a:xfrm>
            <a:off x="3425760" y="4118040"/>
            <a:ext cx="755640" cy="844560"/>
          </a:xfrm>
          <a:custGeom>
            <a:avLst/>
            <a:gdLst>
              <a:gd name="textAreaLeft" fmla="*/ 110520 w 755640"/>
              <a:gd name="textAreaRight" fmla="*/ 645120 w 755640"/>
              <a:gd name="textAreaTop" fmla="*/ 110520 h 844560"/>
              <a:gd name="textAreaBottom" fmla="*/ 734040 h 844560"/>
            </a:gdLst>
            <a:ahLst/>
            <a:rect l="textAreaLeft" t="textAreaTop" r="textAreaRight" b="textAreaBottom"/>
            <a:pathLst>
              <a:path w="21600" h="24141">
                <a:moveTo>
                  <a:pt x="10800" y="0"/>
                </a:moveTo>
                <a:arcTo wR="10800" hR="10800" stAng="16200000" swAng="-5400000"/>
                <a:lnTo>
                  <a:pt x="0" y="13341"/>
                </a:lnTo>
                <a:arcTo wR="10800" hR="10800" stAng="10800000" swAng="-5400000"/>
                <a:lnTo>
                  <a:pt x="10800" y="241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ttangolo arrotondato 10"/>
          <p:cNvSpPr/>
          <p:nvPr/>
        </p:nvSpPr>
        <p:spPr>
          <a:xfrm>
            <a:off x="3456000" y="5226120"/>
            <a:ext cx="711360" cy="755640"/>
          </a:xfrm>
          <a:custGeom>
            <a:avLst/>
            <a:gdLst>
              <a:gd name="textAreaLeft" fmla="*/ 92880 w 711360"/>
              <a:gd name="textAreaRight" fmla="*/ 618480 w 711360"/>
              <a:gd name="textAreaTop" fmla="*/ 92880 h 755640"/>
              <a:gd name="textAreaBottom" fmla="*/ 662760 h 755640"/>
            </a:gdLst>
            <a:ahLst/>
            <a:rect l="textAreaLeft" t="textAreaTop" r="textAreaRight" b="textAreaBottom"/>
            <a:pathLst>
              <a:path w="21600" h="22944">
                <a:moveTo>
                  <a:pt x="9656" y="0"/>
                </a:moveTo>
                <a:arcTo wR="9656" hR="9656" stAng="16200000" swAng="-5400000"/>
                <a:lnTo>
                  <a:pt x="0" y="13288"/>
                </a:lnTo>
                <a:arcTo wR="9656" hR="9656" stAng="10800000" swAng="-5400000"/>
                <a:lnTo>
                  <a:pt x="11944" y="22944"/>
                </a:lnTo>
                <a:arcTo wR="9656" hR="9656" stAng="5400000" swAng="-5400000"/>
                <a:lnTo>
                  <a:pt x="21600" y="9656"/>
                </a:lnTo>
                <a:arcTo wR="9656" hR="9656" stAng="0" swAng="-5400000"/>
                <a:close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460760" y="4205160"/>
            <a:ext cx="44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lectronic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4494240" y="528804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ur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ree"/>
          <p:cNvSpPr/>
          <p:nvPr/>
        </p:nvSpPr>
        <p:spPr>
          <a:xfrm>
            <a:off x="5989680" y="155412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ound"/>
          <p:cNvSpPr/>
          <p:nvPr/>
        </p:nvSpPr>
        <p:spPr>
          <a:xfrm>
            <a:off x="595440" y="3922560"/>
            <a:ext cx="1809720" cy="1810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hoto"/>
          <p:cNvSpPr/>
          <p:nvPr/>
        </p:nvSpPr>
        <p:spPr>
          <a:xfrm>
            <a:off x="549360" y="182232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26"/>
          <p:cNvSpPr/>
          <p:nvPr/>
        </p:nvSpPr>
        <p:spPr>
          <a:xfrm>
            <a:off x="719280" y="0"/>
            <a:ext cx="8221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alibri"/>
              </a:rPr>
              <a:t>EyesWeb XMI </a:t>
            </a:r>
            <a:r>
              <a:rPr b="0" lang="en-GB" sz="4400" spc="-1" strike="noStrike">
                <a:solidFill>
                  <a:srgbClr val="2d2d8a"/>
                </a:solidFill>
                <a:latin typeface="Calibri"/>
              </a:rPr>
              <a:t>– Data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ttangolo arrotondato 6"/>
          <p:cNvSpPr/>
          <p:nvPr/>
        </p:nvSpPr>
        <p:spPr>
          <a:xfrm>
            <a:off x="496800" y="4006800"/>
            <a:ext cx="2114640" cy="188748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ttangolo arrotondato 7"/>
          <p:cNvSpPr/>
          <p:nvPr/>
        </p:nvSpPr>
        <p:spPr>
          <a:xfrm>
            <a:off x="5835600" y="1596960"/>
            <a:ext cx="2114640" cy="188604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ttangolo arrotondato 8"/>
          <p:cNvSpPr/>
          <p:nvPr/>
        </p:nvSpPr>
        <p:spPr>
          <a:xfrm>
            <a:off x="379440" y="1581120"/>
            <a:ext cx="2114640" cy="1886040"/>
          </a:xfrm>
          <a:prstGeom prst="roundRect">
            <a:avLst>
              <a:gd name="adj" fmla="val 44704"/>
            </a:avLst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ttangolo arrotondato 9"/>
          <p:cNvSpPr/>
          <p:nvPr/>
        </p:nvSpPr>
        <p:spPr>
          <a:xfrm>
            <a:off x="3425760" y="4118040"/>
            <a:ext cx="755640" cy="844560"/>
          </a:xfrm>
          <a:custGeom>
            <a:avLst/>
            <a:gdLst>
              <a:gd name="textAreaLeft" fmla="*/ 110520 w 755640"/>
              <a:gd name="textAreaRight" fmla="*/ 645120 w 755640"/>
              <a:gd name="textAreaTop" fmla="*/ 110520 h 844560"/>
              <a:gd name="textAreaBottom" fmla="*/ 734040 h 844560"/>
            </a:gdLst>
            <a:ahLst/>
            <a:rect l="textAreaLeft" t="textAreaTop" r="textAreaRight" b="textAreaBottom"/>
            <a:pathLst>
              <a:path w="21600" h="24141">
                <a:moveTo>
                  <a:pt x="10800" y="0"/>
                </a:moveTo>
                <a:arcTo wR="10800" hR="10800" stAng="16200000" swAng="-5400000"/>
                <a:lnTo>
                  <a:pt x="0" y="13341"/>
                </a:lnTo>
                <a:arcTo wR="10800" hR="10800" stAng="10800000" swAng="-5400000"/>
                <a:lnTo>
                  <a:pt x="10800" y="2414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ttangolo arrotondato 10"/>
          <p:cNvSpPr/>
          <p:nvPr/>
        </p:nvSpPr>
        <p:spPr>
          <a:xfrm>
            <a:off x="3456000" y="5226120"/>
            <a:ext cx="711360" cy="755640"/>
          </a:xfrm>
          <a:custGeom>
            <a:avLst/>
            <a:gdLst>
              <a:gd name="textAreaLeft" fmla="*/ 92880 w 711360"/>
              <a:gd name="textAreaRight" fmla="*/ 618480 w 711360"/>
              <a:gd name="textAreaTop" fmla="*/ 92880 h 755640"/>
              <a:gd name="textAreaBottom" fmla="*/ 662760 h 755640"/>
            </a:gdLst>
            <a:ahLst/>
            <a:rect l="textAreaLeft" t="textAreaTop" r="textAreaRight" b="textAreaBottom"/>
            <a:pathLst>
              <a:path w="21600" h="22944">
                <a:moveTo>
                  <a:pt x="9656" y="0"/>
                </a:moveTo>
                <a:arcTo wR="9656" hR="9656" stAng="16200000" swAng="-5400000"/>
                <a:lnTo>
                  <a:pt x="0" y="13288"/>
                </a:lnTo>
                <a:arcTo wR="9656" hR="9656" stAng="10800000" swAng="-5400000"/>
                <a:lnTo>
                  <a:pt x="11944" y="22944"/>
                </a:lnTo>
                <a:arcTo wR="9656" hR="9656" stAng="5400000" swAng="-5400000"/>
                <a:lnTo>
                  <a:pt x="21600" y="9656"/>
                </a:lnTo>
                <a:arcTo wR="9656" hR="9656" stAng="0" swAng="-5400000"/>
                <a:close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460760" y="4205160"/>
            <a:ext cx="44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lectronic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494240" y="528804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ur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ttangolo arrotondato 13"/>
          <p:cNvSpPr/>
          <p:nvPr/>
        </p:nvSpPr>
        <p:spPr>
          <a:xfrm>
            <a:off x="90360" y="1001880"/>
            <a:ext cx="2908440" cy="5533920"/>
          </a:xfrm>
          <a:custGeom>
            <a:avLst/>
            <a:gdLst>
              <a:gd name="textAreaLeft" fmla="*/ 425880 w 2908440"/>
              <a:gd name="textAreaRight" fmla="*/ 2482560 w 2908440"/>
              <a:gd name="textAreaTop" fmla="*/ 425880 h 5533920"/>
              <a:gd name="textAreaBottom" fmla="*/ 5108040 h 5533920"/>
            </a:gdLst>
            <a:ahLst/>
            <a:rect l="textAreaLeft" t="textAreaTop" r="textAreaRight" b="textAreaBottom"/>
            <a:pathLst>
              <a:path w="21600" h="41096">
                <a:moveTo>
                  <a:pt x="10800" y="0"/>
                </a:moveTo>
                <a:arcTo wR="10800" hR="10800" stAng="16200000" swAng="-5400000"/>
                <a:lnTo>
                  <a:pt x="0" y="30296"/>
                </a:lnTo>
                <a:arcTo wR="10800" hR="10800" stAng="10800000" swAng="-5400000"/>
                <a:lnTo>
                  <a:pt x="10800" y="410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nettore 1 15"/>
          <p:cNvSpPr/>
          <p:nvPr/>
        </p:nvSpPr>
        <p:spPr>
          <a:xfrm>
            <a:off x="5846760" y="1438200"/>
            <a:ext cx="2038320" cy="262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ttangolo 1"/>
          <p:cNvSpPr/>
          <p:nvPr/>
        </p:nvSpPr>
        <p:spPr>
          <a:xfrm>
            <a:off x="2798640" y="11764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data types may include: integers, floating-point numbers (decimals), alphanumeric strings, dates, times, video streams, audi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26"/>
          <p:cNvSpPr/>
          <p:nvPr/>
        </p:nvSpPr>
        <p:spPr>
          <a:xfrm>
            <a:off x="719280" y="-228600"/>
            <a:ext cx="8221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alibri"/>
              </a:rPr>
              <a:t>EyesWeb XMI </a:t>
            </a:r>
            <a:r>
              <a:rPr b="0" lang="en-GB" sz="4400" spc="-1" strike="noStrike">
                <a:solidFill>
                  <a:srgbClr val="2d2d8a"/>
                </a:solidFill>
                <a:latin typeface="Calibri"/>
              </a:rPr>
              <a:t>– Common Data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C:\Documents and Settings\Chiara\Desktop\GUI.bmp"/>
          <p:cNvPicPr/>
          <p:nvPr/>
        </p:nvPicPr>
        <p:blipFill>
          <a:blip r:embed="rId1"/>
          <a:stretch/>
        </p:blipFill>
        <p:spPr>
          <a:xfrm>
            <a:off x="344520" y="2930400"/>
            <a:ext cx="2076480" cy="2232000"/>
          </a:xfrm>
          <a:prstGeom prst="rect">
            <a:avLst/>
          </a:prstGeom>
          <a:ln w="0">
            <a:noFill/>
          </a:ln>
        </p:spPr>
      </p:pic>
      <p:sp>
        <p:nvSpPr>
          <p:cNvPr id="346" name="Rettangolo 1"/>
          <p:cNvSpPr/>
          <p:nvPr/>
        </p:nvSpPr>
        <p:spPr>
          <a:xfrm>
            <a:off x="0" y="611028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ex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ttangolo 1"/>
          <p:cNvSpPr/>
          <p:nvPr/>
        </p:nvSpPr>
        <p:spPr>
          <a:xfrm>
            <a:off x="0" y="5019840"/>
            <a:ext cx="8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ttangolo 1"/>
          <p:cNvSpPr/>
          <p:nvPr/>
        </p:nvSpPr>
        <p:spPr>
          <a:xfrm>
            <a:off x="0" y="559260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ub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C:\Documents and Settings\Chiara\Desktop\bang.bmp"/>
          <p:cNvPicPr/>
          <p:nvPr/>
        </p:nvPicPr>
        <p:blipFill>
          <a:blip r:embed="rId2"/>
          <a:stretch/>
        </p:blipFill>
        <p:spPr>
          <a:xfrm>
            <a:off x="2879640" y="3160800"/>
            <a:ext cx="1882800" cy="2627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C:\Documents and Settings\Chiara\Desktop\generator3.bmp"/>
          <p:cNvPicPr/>
          <p:nvPr/>
        </p:nvPicPr>
        <p:blipFill>
          <a:blip r:embed="rId3"/>
          <a:stretch/>
        </p:blipFill>
        <p:spPr>
          <a:xfrm>
            <a:off x="4950000" y="3060720"/>
            <a:ext cx="1296720" cy="1587600"/>
          </a:xfrm>
          <a:prstGeom prst="rect">
            <a:avLst/>
          </a:prstGeom>
          <a:ln w="0">
            <a:noFill/>
          </a:ln>
        </p:spPr>
      </p:pic>
      <p:sp>
        <p:nvSpPr>
          <p:cNvPr id="351" name="Rettangolo 1"/>
          <p:cNvSpPr/>
          <p:nvPr/>
        </p:nvSpPr>
        <p:spPr>
          <a:xfrm>
            <a:off x="4867200" y="49197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ang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lide and scalar generator, int,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C:\Documents and Settings\Chiara\Desktop\generator4.bmp"/>
          <p:cNvPicPr/>
          <p:nvPr/>
        </p:nvPicPr>
        <p:blipFill>
          <a:blip r:embed="rId4"/>
          <a:stretch/>
        </p:blipFill>
        <p:spPr>
          <a:xfrm>
            <a:off x="6735600" y="2976480"/>
            <a:ext cx="1063800" cy="1557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Chiara\Desktop\IO.bmp"/>
          <p:cNvPicPr/>
          <p:nvPr/>
        </p:nvPicPr>
        <p:blipFill>
          <a:blip r:embed="rId5"/>
          <a:stretch/>
        </p:blipFill>
        <p:spPr>
          <a:xfrm>
            <a:off x="7905600" y="2870280"/>
            <a:ext cx="1238400" cy="2825640"/>
          </a:xfrm>
          <a:prstGeom prst="rect">
            <a:avLst/>
          </a:prstGeom>
          <a:ln w="0">
            <a:noFill/>
          </a:ln>
        </p:spPr>
      </p:pic>
      <p:sp>
        <p:nvSpPr>
          <p:cNvPr id="354" name="Connettore 1 12"/>
          <p:cNvSpPr/>
          <p:nvPr/>
        </p:nvSpPr>
        <p:spPr>
          <a:xfrm flipV="1">
            <a:off x="1081080" y="727200"/>
            <a:ext cx="6210360" cy="1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d2d8a"/>
                </a:solidFill>
                <a:latin typeface="Calibri"/>
              </a:rPr>
              <a:t>EyesWeb XMI – Supported techn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1738440" y="1035000"/>
            <a:ext cx="740556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c09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mmunicatio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: TCP, UDP, OSC,  HTTP, COM/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c09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udi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ASIO, DirectSound, V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c09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ideo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FreeFramePlu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c09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: 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vic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High-speed cameras (e.g. Silicon Imaging), PTZ cameras, HTTP camer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nettore 1 3"/>
          <p:cNvSpPr/>
          <p:nvPr/>
        </p:nvSpPr>
        <p:spPr>
          <a:xfrm flipV="1">
            <a:off x="995400" y="8409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0" y="-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d2d8a"/>
                </a:solidFill>
                <a:latin typeface="Calibri"/>
              </a:rPr>
              <a:t>EyesWeb XMI - Synchr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995400" y="3414600"/>
            <a:ext cx="842976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c09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w mechanism for synchron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-in pi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-out p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996840" y="129384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modal proces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handle several data str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clock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onnettore 1 4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EyesWeb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C:\Documents and Settings\Donald\Desktop\catalog.png"/>
          <p:cNvPicPr/>
          <p:nvPr/>
        </p:nvPicPr>
        <p:blipFill>
          <a:blip r:embed="rId1"/>
          <a:srcRect l="0" t="0" r="38698" b="16848"/>
          <a:stretch/>
        </p:blipFill>
        <p:spPr>
          <a:xfrm>
            <a:off x="0" y="914400"/>
            <a:ext cx="6719760" cy="5757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C:\Documents and Settings\Chiara\Desktop\GUI.bmp"/>
          <p:cNvPicPr/>
          <p:nvPr/>
        </p:nvPicPr>
        <p:blipFill>
          <a:blip r:embed="rId2"/>
          <a:stretch/>
        </p:blipFill>
        <p:spPr>
          <a:xfrm>
            <a:off x="4786200" y="1914480"/>
            <a:ext cx="1673280" cy="1798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:\Documents and Settings\Chiara\Desktop\bang.bmp"/>
          <p:cNvPicPr/>
          <p:nvPr/>
        </p:nvPicPr>
        <p:blipFill>
          <a:blip r:embed="rId3"/>
          <a:stretch/>
        </p:blipFill>
        <p:spPr>
          <a:xfrm>
            <a:off x="4737240" y="3871800"/>
            <a:ext cx="1882800" cy="2627280"/>
          </a:xfrm>
          <a:prstGeom prst="rect">
            <a:avLst/>
          </a:prstGeom>
          <a:ln w="0">
            <a:noFill/>
          </a:ln>
        </p:spPr>
      </p:pic>
      <p:cxnSp>
        <p:nvCxnSpPr>
          <p:cNvPr id="367" name="Connettore 2 15"/>
          <p:cNvCxnSpPr/>
          <p:nvPr/>
        </p:nvCxnSpPr>
        <p:spPr>
          <a:xfrm flipH="1">
            <a:off x="3380760" y="1826280"/>
            <a:ext cx="3134520" cy="6084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Donald\Desktop\EWweek-TUTORIALBeginners\EW-img\patchexercise.png"/>
          <p:cNvPicPr/>
          <p:nvPr/>
        </p:nvPicPr>
        <p:blipFill>
          <a:blip r:embed="rId1"/>
          <a:stretch/>
        </p:blipFill>
        <p:spPr>
          <a:xfrm>
            <a:off x="0" y="1428840"/>
            <a:ext cx="3862440" cy="43527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Patches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C:\Documents and Settings\Chiara\Desktop\GUI.bmp"/>
          <p:cNvPicPr/>
          <p:nvPr/>
        </p:nvPicPr>
        <p:blipFill>
          <a:blip r:embed="rId2"/>
          <a:stretch/>
        </p:blipFill>
        <p:spPr>
          <a:xfrm>
            <a:off x="4786200" y="1914480"/>
            <a:ext cx="1673280" cy="17985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C:\Documents and Settings\Chiara\Desktop\bang.bmp"/>
          <p:cNvPicPr/>
          <p:nvPr/>
        </p:nvPicPr>
        <p:blipFill>
          <a:blip r:embed="rId3"/>
          <a:stretch/>
        </p:blipFill>
        <p:spPr>
          <a:xfrm>
            <a:off x="4737240" y="3871800"/>
            <a:ext cx="1882800" cy="2627280"/>
          </a:xfrm>
          <a:prstGeom prst="rect">
            <a:avLst/>
          </a:prstGeom>
          <a:ln w="0">
            <a:noFill/>
          </a:ln>
        </p:spPr>
      </p:pic>
      <p:cxnSp>
        <p:nvCxnSpPr>
          <p:cNvPr id="373" name="Connettore 2 15"/>
          <p:cNvCxnSpPr/>
          <p:nvPr/>
        </p:nvCxnSpPr>
        <p:spPr>
          <a:xfrm flipH="1">
            <a:off x="3380760" y="1826280"/>
            <a:ext cx="3134520" cy="6084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Example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C:\Documents and Settings\Donald\Desktop\slideDONE.bmp"/>
          <p:cNvPicPr/>
          <p:nvPr/>
        </p:nvPicPr>
        <p:blipFill>
          <a:blip r:embed="rId1"/>
          <a:stretch/>
        </p:blipFill>
        <p:spPr>
          <a:xfrm>
            <a:off x="3090960" y="3133800"/>
            <a:ext cx="5514840" cy="2343240"/>
          </a:xfrm>
          <a:prstGeom prst="rect">
            <a:avLst/>
          </a:prstGeom>
          <a:ln w="0">
            <a:noFill/>
          </a:ln>
        </p:spPr>
      </p:pic>
      <p:cxnSp>
        <p:nvCxnSpPr>
          <p:cNvPr id="377" name="Connettore 2 15"/>
          <p:cNvCxnSpPr/>
          <p:nvPr/>
        </p:nvCxnSpPr>
        <p:spPr>
          <a:xfrm>
            <a:off x="2019240" y="3085920"/>
            <a:ext cx="619920" cy="1926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78" name="Picture 3" descr="C:\Documents and Settings\Donald\Desktop\slide-TODO.bmp"/>
          <p:cNvPicPr/>
          <p:nvPr/>
        </p:nvPicPr>
        <p:blipFill>
          <a:blip r:embed="rId2"/>
          <a:stretch/>
        </p:blipFill>
        <p:spPr>
          <a:xfrm>
            <a:off x="900000" y="976320"/>
            <a:ext cx="2162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onnettore 1 11"/>
          <p:cNvSpPr/>
          <p:nvPr/>
        </p:nvSpPr>
        <p:spPr>
          <a:xfrm>
            <a:off x="571680" y="6348240"/>
            <a:ext cx="807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98720" y="592200"/>
            <a:ext cx="73450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Graphical Development Environment (G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/O (input/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c in/Sync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/ contro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Analysis (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Mapp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11"/>
          <p:cNvSpPr/>
          <p:nvPr/>
        </p:nvSpPr>
        <p:spPr>
          <a:xfrm>
            <a:off x="571680" y="6348240"/>
            <a:ext cx="807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098720" y="592200"/>
            <a:ext cx="73450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al Development Environment (G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/O (input/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Sync in/Sync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Management / contro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Analysis (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Mapp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9" descr="C:\Documents and Settings\Donald\Desktop\catalog.png"/>
          <p:cNvPicPr/>
          <p:nvPr/>
        </p:nvPicPr>
        <p:blipFill>
          <a:blip r:embed="rId1"/>
          <a:srcRect l="0" t="0" r="38698" b="16848"/>
          <a:stretch/>
        </p:blipFill>
        <p:spPr>
          <a:xfrm>
            <a:off x="0" y="914400"/>
            <a:ext cx="6719760" cy="575784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EyesWeb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400800" y="4421160"/>
            <a:ext cx="23814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ync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C:\Documents and Settings\Chiara\Desktop\generator4.bmp"/>
          <p:cNvPicPr/>
          <p:nvPr/>
        </p:nvPicPr>
        <p:blipFill>
          <a:blip r:embed="rId2"/>
          <a:stretch/>
        </p:blipFill>
        <p:spPr>
          <a:xfrm>
            <a:off x="6794640" y="1482840"/>
            <a:ext cx="1063440" cy="1557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C:\Documents and Settings\Chiara\Desktop\IO.bmp"/>
          <p:cNvPicPr/>
          <p:nvPr/>
        </p:nvPicPr>
        <p:blipFill>
          <a:blip r:embed="rId3"/>
          <a:stretch/>
        </p:blipFill>
        <p:spPr>
          <a:xfrm>
            <a:off x="7905600" y="1454040"/>
            <a:ext cx="1238400" cy="2826000"/>
          </a:xfrm>
          <a:prstGeom prst="rect">
            <a:avLst/>
          </a:prstGeom>
          <a:ln w="0">
            <a:noFill/>
          </a:ln>
        </p:spPr>
      </p:pic>
      <p:cxnSp>
        <p:nvCxnSpPr>
          <p:cNvPr id="389" name="Connettore 2 23"/>
          <p:cNvCxnSpPr/>
          <p:nvPr/>
        </p:nvCxnSpPr>
        <p:spPr>
          <a:xfrm flipH="1" flipV="1">
            <a:off x="2451960" y="214704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Connettore 2 19"/>
          <p:cNvCxnSpPr/>
          <p:nvPr/>
        </p:nvCxnSpPr>
        <p:spPr>
          <a:xfrm flipH="1" flipV="1">
            <a:off x="5203080" y="325836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Connettore 2 22"/>
          <p:cNvCxnSpPr/>
          <p:nvPr/>
        </p:nvCxnSpPr>
        <p:spPr>
          <a:xfrm flipH="1" flipV="1">
            <a:off x="3715560" y="410652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2" name="Connettore 2 24"/>
          <p:cNvCxnSpPr/>
          <p:nvPr/>
        </p:nvCxnSpPr>
        <p:spPr>
          <a:xfrm flipH="1" flipV="1">
            <a:off x="2386800" y="462204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Connettore 2 25"/>
          <p:cNvCxnSpPr/>
          <p:nvPr/>
        </p:nvCxnSpPr>
        <p:spPr>
          <a:xfrm flipH="1" flipV="1">
            <a:off x="3018600" y="499248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Connettore 2 26"/>
          <p:cNvCxnSpPr/>
          <p:nvPr/>
        </p:nvCxnSpPr>
        <p:spPr>
          <a:xfrm flipH="1" flipV="1">
            <a:off x="3083760" y="523152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Connettore 2 27"/>
          <p:cNvCxnSpPr/>
          <p:nvPr/>
        </p:nvCxnSpPr>
        <p:spPr>
          <a:xfrm flipH="1" flipV="1">
            <a:off x="2364480" y="550044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6934320" y="4952880"/>
            <a:ext cx="1123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Donald\Desktop\EWweek-TUTORIALBeginners\EW-img\patchexercise.png"/>
          <p:cNvPicPr/>
          <p:nvPr/>
        </p:nvPicPr>
        <p:blipFill>
          <a:blip r:embed="rId1"/>
          <a:stretch/>
        </p:blipFill>
        <p:spPr>
          <a:xfrm>
            <a:off x="0" y="1428840"/>
            <a:ext cx="3862440" cy="43527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Patches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6400800" y="4421160"/>
            <a:ext cx="23814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ync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C:\Documents and Settings\Chiara\Desktop\generator4.bmp"/>
          <p:cNvPicPr/>
          <p:nvPr/>
        </p:nvPicPr>
        <p:blipFill>
          <a:blip r:embed="rId2"/>
          <a:stretch/>
        </p:blipFill>
        <p:spPr>
          <a:xfrm>
            <a:off x="6794640" y="1482840"/>
            <a:ext cx="1063440" cy="1557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Documents and Settings\Chiara\Desktop\IO.bmp"/>
          <p:cNvPicPr/>
          <p:nvPr/>
        </p:nvPicPr>
        <p:blipFill>
          <a:blip r:embed="rId3"/>
          <a:stretch/>
        </p:blipFill>
        <p:spPr>
          <a:xfrm>
            <a:off x="7905600" y="1454040"/>
            <a:ext cx="1238400" cy="2826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4"/>
          <a:stretch/>
        </p:blipFill>
        <p:spPr>
          <a:xfrm>
            <a:off x="6934320" y="4952880"/>
            <a:ext cx="1123920" cy="103032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nettore 2 15"/>
          <p:cNvCxnSpPr/>
          <p:nvPr/>
        </p:nvCxnSpPr>
        <p:spPr>
          <a:xfrm flipH="1">
            <a:off x="2923560" y="2398680"/>
            <a:ext cx="3134520" cy="6120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Exampl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nettore 2 15"/>
          <p:cNvCxnSpPr/>
          <p:nvPr/>
        </p:nvCxnSpPr>
        <p:spPr>
          <a:xfrm>
            <a:off x="1923840" y="3581280"/>
            <a:ext cx="619560" cy="1929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08" name="Picture 2" descr="C:\Documents and Settings\Donald\Desktop\selectvideo-TODO.bmp"/>
          <p:cNvPicPr/>
          <p:nvPr/>
        </p:nvPicPr>
        <p:blipFill>
          <a:blip r:embed="rId1"/>
          <a:stretch/>
        </p:blipFill>
        <p:spPr>
          <a:xfrm>
            <a:off x="752400" y="719280"/>
            <a:ext cx="3371760" cy="2371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Donald\Desktop\selectvideo-DONE.bmp"/>
          <p:cNvPicPr/>
          <p:nvPr/>
        </p:nvPicPr>
        <p:blipFill>
          <a:blip r:embed="rId2"/>
          <a:stretch/>
        </p:blipFill>
        <p:spPr>
          <a:xfrm>
            <a:off x="2995560" y="3105000"/>
            <a:ext cx="54435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F1AD-3202-44EE-A44A-4E940F3683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-65736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d2d8a"/>
                </a:solidFill>
                <a:latin typeface="Calibri"/>
              </a:rPr>
              <a:t>EyesWeb XMI – Sync-in 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457200" y="1219320"/>
            <a:ext cx="84297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ac09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ac09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ync-in p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ke the clock source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ac09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vailable for ever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ac09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xported on user's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685800" cy="628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415" name="Connettore 1 6"/>
          <p:cNvSpPr/>
          <p:nvPr/>
        </p:nvSpPr>
        <p:spPr>
          <a:xfrm flipV="1">
            <a:off x="1252440" y="69804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9418-10E6-4982-8CD6-02B2C4E75DCA}" type="slidenum">
              <a:rPr b="0" lang="en-GB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-42876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d2d8a"/>
                </a:solidFill>
                <a:latin typeface="Calibri"/>
              </a:rPr>
              <a:t>EyesWeb XMI – Sync-in 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1119240" y="1285920"/>
            <a:ext cx="84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lock signal may be connected to this pin →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lock is activated according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peed of this clock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tretch/>
        </p:blipFill>
        <p:spPr>
          <a:xfrm>
            <a:off x="2714760" y="2943360"/>
            <a:ext cx="3456000" cy="18572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4"/>
          <p:cNvSpPr/>
          <p:nvPr/>
        </p:nvSpPr>
        <p:spPr>
          <a:xfrm>
            <a:off x="1208160" y="4805280"/>
            <a:ext cx="842940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ampl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Video File Read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block is synchronized with an audio signal which acts as clock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onnettore 1 6"/>
          <p:cNvSpPr/>
          <p:nvPr/>
        </p:nvSpPr>
        <p:spPr>
          <a:xfrm flipV="1">
            <a:off x="1224000" y="641520"/>
            <a:ext cx="6210360" cy="1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onnettore 1 11"/>
          <p:cNvSpPr/>
          <p:nvPr/>
        </p:nvSpPr>
        <p:spPr>
          <a:xfrm>
            <a:off x="571680" y="6348240"/>
            <a:ext cx="807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098720" y="592200"/>
            <a:ext cx="73450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Graphical Development Environment (G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/O (input/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Sync in/Sync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Management / contro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Analysis (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Mapp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" descr="C:\Documents and Settings\Donald\Desktop\catalog.png"/>
          <p:cNvPicPr/>
          <p:nvPr/>
        </p:nvPicPr>
        <p:blipFill>
          <a:blip r:embed="rId1"/>
          <a:srcRect l="0" t="0" r="38698" b="16848"/>
          <a:stretch/>
        </p:blipFill>
        <p:spPr>
          <a:xfrm>
            <a:off x="0" y="914400"/>
            <a:ext cx="6719760" cy="57578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1139760" y="65160"/>
            <a:ext cx="1009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EyesWeb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Connettore 2 23"/>
          <p:cNvCxnSpPr/>
          <p:nvPr/>
        </p:nvCxnSpPr>
        <p:spPr>
          <a:xfrm flipH="1" flipV="1">
            <a:off x="2451960" y="214704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Connettore 2 19"/>
          <p:cNvCxnSpPr/>
          <p:nvPr/>
        </p:nvCxnSpPr>
        <p:spPr>
          <a:xfrm flipH="1" flipV="1">
            <a:off x="5203080" y="325836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Connettore 2 22"/>
          <p:cNvCxnSpPr/>
          <p:nvPr/>
        </p:nvCxnSpPr>
        <p:spPr>
          <a:xfrm flipH="1" flipV="1">
            <a:off x="3715560" y="410652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Connettore 2 24"/>
          <p:cNvCxnSpPr/>
          <p:nvPr/>
        </p:nvCxnSpPr>
        <p:spPr>
          <a:xfrm flipH="1" flipV="1">
            <a:off x="2386800" y="462204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Connettore 2 25"/>
          <p:cNvCxnSpPr/>
          <p:nvPr/>
        </p:nvCxnSpPr>
        <p:spPr>
          <a:xfrm flipH="1" flipV="1">
            <a:off x="3018600" y="499248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Connettore 2 26"/>
          <p:cNvCxnSpPr/>
          <p:nvPr/>
        </p:nvCxnSpPr>
        <p:spPr>
          <a:xfrm flipH="1" flipV="1">
            <a:off x="3083760" y="523152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Connettore 2 27"/>
          <p:cNvCxnSpPr/>
          <p:nvPr/>
        </p:nvCxnSpPr>
        <p:spPr>
          <a:xfrm flipH="1" flipV="1">
            <a:off x="2364480" y="550044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36" name="Picture 23" descr="C:\Documents and Settings\Donald\Desktop\listpablock.bmp"/>
          <p:cNvPicPr/>
          <p:nvPr/>
        </p:nvPicPr>
        <p:blipFill>
          <a:blip r:embed="rId2"/>
          <a:stretch/>
        </p:blipFill>
        <p:spPr>
          <a:xfrm>
            <a:off x="6238800" y="1805040"/>
            <a:ext cx="2600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Donald\Desktop\EWweek-TUTORIALBeginners\EW-img\patchexercise.png"/>
          <p:cNvPicPr/>
          <p:nvPr/>
        </p:nvPicPr>
        <p:blipFill>
          <a:blip r:embed="rId1"/>
          <a:stretch/>
        </p:blipFill>
        <p:spPr>
          <a:xfrm>
            <a:off x="0" y="1428840"/>
            <a:ext cx="3862440" cy="43527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Patches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Connettore 2 15"/>
          <p:cNvCxnSpPr/>
          <p:nvPr/>
        </p:nvCxnSpPr>
        <p:spPr>
          <a:xfrm flipH="1">
            <a:off x="2980440" y="3512160"/>
            <a:ext cx="3134520" cy="6084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41" name="Picture 23" descr="C:\Documents and Settings\Donald\Desktop\listpablock.bmp"/>
          <p:cNvPicPr/>
          <p:nvPr/>
        </p:nvPicPr>
        <p:blipFill>
          <a:blip r:embed="rId2"/>
          <a:stretch/>
        </p:blipFill>
        <p:spPr>
          <a:xfrm>
            <a:off x="6238800" y="1805040"/>
            <a:ext cx="2600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planof summer school1"/>
          <p:cNvPicPr/>
          <p:nvPr/>
        </p:nvPicPr>
        <p:blipFill>
          <a:blip r:embed="rId1"/>
          <a:stretch/>
        </p:blipFill>
        <p:spPr>
          <a:xfrm>
            <a:off x="1979640" y="620640"/>
            <a:ext cx="4922640" cy="56167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1835280" y="1125360"/>
            <a:ext cx="2305080" cy="5032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284720" y="1557360"/>
            <a:ext cx="2305080" cy="57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284720" y="2276640"/>
            <a:ext cx="230508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4284720" y="3932280"/>
            <a:ext cx="230508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4211640" y="5300640"/>
            <a:ext cx="230508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1" descr="image1"/>
          <p:cNvPicPr/>
          <p:nvPr/>
        </p:nvPicPr>
        <p:blipFill>
          <a:blip r:embed="rId2"/>
          <a:stretch/>
        </p:blipFill>
        <p:spPr>
          <a:xfrm>
            <a:off x="4859280" y="189000"/>
            <a:ext cx="1440000" cy="1179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" descr="image2morphing"/>
          <p:cNvPicPr/>
          <p:nvPr/>
        </p:nvPicPr>
        <p:blipFill>
          <a:blip r:embed="rId3"/>
          <a:stretch/>
        </p:blipFill>
        <p:spPr>
          <a:xfrm>
            <a:off x="250920" y="1484280"/>
            <a:ext cx="1439640" cy="1177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image1threshold"/>
          <p:cNvPicPr/>
          <p:nvPr/>
        </p:nvPicPr>
        <p:blipFill>
          <a:blip r:embed="rId4"/>
          <a:stretch/>
        </p:blipFill>
        <p:spPr>
          <a:xfrm>
            <a:off x="7236000" y="2060640"/>
            <a:ext cx="1439640" cy="1177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image1bounding-rect"/>
          <p:cNvPicPr/>
          <p:nvPr/>
        </p:nvPicPr>
        <p:blipFill>
          <a:blip r:embed="rId5"/>
          <a:stretch/>
        </p:blipFill>
        <p:spPr>
          <a:xfrm>
            <a:off x="7164360" y="3789360"/>
            <a:ext cx="1440000" cy="117792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15"/>
          <p:cNvSpPr/>
          <p:nvPr/>
        </p:nvSpPr>
        <p:spPr>
          <a:xfrm>
            <a:off x="0" y="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Calibri"/>
              </a:rPr>
              <a:t>What can you do with an im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ree Frame Plug 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C:\Documents and Settings\Donald\Desktop\test.jpg"/>
          <p:cNvPicPr/>
          <p:nvPr/>
        </p:nvPicPr>
        <p:blipFill>
          <a:blip r:embed="rId1"/>
          <a:stretch/>
        </p:blipFill>
        <p:spPr>
          <a:xfrm>
            <a:off x="1290600" y="666720"/>
            <a:ext cx="54579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Background : the EyesWeb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nettore 1 11"/>
          <p:cNvSpPr/>
          <p:nvPr/>
        </p:nvSpPr>
        <p:spPr>
          <a:xfrm>
            <a:off x="571680" y="6215040"/>
            <a:ext cx="807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74680" y="934920"/>
            <a:ext cx="73454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ing and exploring paradigms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n-verbal interaction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[Walbott, 199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nove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ltimod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ress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uman-computer interfaces (HC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based 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-fertilis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science/engineering with humanistic theories on non-verbal communication (psychology, music performance and dance theories </a:t>
            </a:r>
            <a:r>
              <a:rPr b="0" lang="fr-FR" sz="2400" spc="-1" strike="noStrike">
                <a:solidFill>
                  <a:srgbClr val="333399"/>
                </a:solidFill>
                <a:latin typeface="Calibri"/>
              </a:rPr>
              <a:t>[Laban’s Theory of Effor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C:\Documents and Settings\Chiara\Desktop\BGD.bmp"/>
          <p:cNvPicPr/>
          <p:nvPr/>
        </p:nvPicPr>
        <p:blipFill>
          <a:blip r:embed="rId1"/>
          <a:stretch/>
        </p:blipFill>
        <p:spPr>
          <a:xfrm>
            <a:off x="0" y="1731960"/>
            <a:ext cx="4692600" cy="3933720"/>
          </a:xfrm>
          <a:prstGeom prst="rect">
            <a:avLst/>
          </a:prstGeom>
          <a:ln w="0">
            <a:noFill/>
          </a:ln>
        </p:spPr>
      </p:pic>
      <p:sp>
        <p:nvSpPr>
          <p:cNvPr id="458" name="Rettangolo 1"/>
          <p:cNvSpPr/>
          <p:nvPr/>
        </p:nvSpPr>
        <p:spPr>
          <a:xfrm>
            <a:off x="4767120" y="1917720"/>
            <a:ext cx="3927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IDE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(color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ttangolo 1"/>
          <p:cNvSpPr/>
          <p:nvPr/>
        </p:nvSpPr>
        <p:spPr>
          <a:xfrm>
            <a:off x="4664160" y="2744640"/>
            <a:ext cx="447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CKGROUND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(grey-scale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ttangolo 1"/>
          <p:cNvSpPr/>
          <p:nvPr/>
        </p:nvSpPr>
        <p:spPr>
          <a:xfrm>
            <a:off x="4680000" y="3618000"/>
            <a:ext cx="4478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ILHOUETTE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(Binary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ttangolo 1"/>
          <p:cNvSpPr/>
          <p:nvPr/>
        </p:nvSpPr>
        <p:spPr>
          <a:xfrm>
            <a:off x="4680000" y="4533840"/>
            <a:ext cx="4478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ESTUR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(barycentre,area,bounding rectangle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Image Processing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Example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onnettore 1 9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onnettore 1 11"/>
          <p:cNvSpPr/>
          <p:nvPr/>
        </p:nvSpPr>
        <p:spPr>
          <a:xfrm>
            <a:off x="571680" y="6348240"/>
            <a:ext cx="807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098720" y="592200"/>
            <a:ext cx="73450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Graphical Development Environment (G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/O (input/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Sync in/Sync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Management / contro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alibri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Imag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Analysis (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p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9" descr="C:\Documents and Settings\Donald\Desktop\catalog.png"/>
          <p:cNvPicPr/>
          <p:nvPr/>
        </p:nvPicPr>
        <p:blipFill>
          <a:blip r:embed="rId1"/>
          <a:srcRect l="0" t="0" r="38698" b="16848"/>
          <a:stretch/>
        </p:blipFill>
        <p:spPr>
          <a:xfrm>
            <a:off x="0" y="914400"/>
            <a:ext cx="6719760" cy="57578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"/>
          <p:cNvSpPr/>
          <p:nvPr/>
        </p:nvSpPr>
        <p:spPr>
          <a:xfrm>
            <a:off x="1139760" y="65160"/>
            <a:ext cx="1009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EyesWeb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Connettore 2 23"/>
          <p:cNvCxnSpPr/>
          <p:nvPr/>
        </p:nvCxnSpPr>
        <p:spPr>
          <a:xfrm flipH="1" flipV="1">
            <a:off x="2451960" y="214704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Connettore 2 19"/>
          <p:cNvCxnSpPr/>
          <p:nvPr/>
        </p:nvCxnSpPr>
        <p:spPr>
          <a:xfrm flipH="1" flipV="1">
            <a:off x="5203080" y="325836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Connettore 2 22"/>
          <p:cNvCxnSpPr/>
          <p:nvPr/>
        </p:nvCxnSpPr>
        <p:spPr>
          <a:xfrm flipH="1" flipV="1">
            <a:off x="3715560" y="410652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Connettore 2 24"/>
          <p:cNvCxnSpPr/>
          <p:nvPr/>
        </p:nvCxnSpPr>
        <p:spPr>
          <a:xfrm flipH="1" flipV="1">
            <a:off x="2386800" y="462204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Connettore 2 25"/>
          <p:cNvCxnSpPr/>
          <p:nvPr/>
        </p:nvCxnSpPr>
        <p:spPr>
          <a:xfrm flipH="1" flipV="1">
            <a:off x="3018600" y="499248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Connettore 2 26"/>
          <p:cNvCxnSpPr/>
          <p:nvPr/>
        </p:nvCxnSpPr>
        <p:spPr>
          <a:xfrm flipH="1" flipV="1">
            <a:off x="3083760" y="5231520"/>
            <a:ext cx="52308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Connettore 2 27"/>
          <p:cNvCxnSpPr/>
          <p:nvPr/>
        </p:nvCxnSpPr>
        <p:spPr>
          <a:xfrm flipH="1" flipV="1">
            <a:off x="2364480" y="5500440"/>
            <a:ext cx="52308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78" name="Picture 23" descr="C:\Documents and Settings\Donald\Desktop\listpablock.bmp"/>
          <p:cNvPicPr/>
          <p:nvPr/>
        </p:nvPicPr>
        <p:blipFill>
          <a:blip r:embed="rId2"/>
          <a:stretch/>
        </p:blipFill>
        <p:spPr>
          <a:xfrm>
            <a:off x="6238800" y="1805040"/>
            <a:ext cx="2600280" cy="2481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C:\Documents and Settings\Donald\Desktop\EWweek-TUTORIALBeginners\EW-img\selector.png"/>
          <p:cNvPicPr/>
          <p:nvPr/>
        </p:nvPicPr>
        <p:blipFill>
          <a:blip r:embed="rId3"/>
          <a:stretch/>
        </p:blipFill>
        <p:spPr>
          <a:xfrm>
            <a:off x="6510240" y="4552920"/>
            <a:ext cx="809640" cy="781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C:\Documents and Settings\Donald\Desktop\EWweek-TUTORIALBeginners\EW-img\audio.png"/>
          <p:cNvPicPr/>
          <p:nvPr/>
        </p:nvPicPr>
        <p:blipFill>
          <a:blip r:embed="rId4"/>
          <a:stretch/>
        </p:blipFill>
        <p:spPr>
          <a:xfrm>
            <a:off x="7839000" y="4657680"/>
            <a:ext cx="781200" cy="7430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8"/>
          <p:cNvSpPr/>
          <p:nvPr/>
        </p:nvSpPr>
        <p:spPr>
          <a:xfrm>
            <a:off x="6411960" y="4443480"/>
            <a:ext cx="2305080" cy="11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C:\Documents and Settings\Donald\Desktop\EWweek-TUTORIALBeginners\EW-img\patchexercise.png"/>
          <p:cNvPicPr/>
          <p:nvPr/>
        </p:nvPicPr>
        <p:blipFill>
          <a:blip r:embed="rId1"/>
          <a:stretch/>
        </p:blipFill>
        <p:spPr>
          <a:xfrm>
            <a:off x="0" y="1428840"/>
            <a:ext cx="3862440" cy="43527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Patches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Connettore 2 15"/>
          <p:cNvCxnSpPr/>
          <p:nvPr/>
        </p:nvCxnSpPr>
        <p:spPr>
          <a:xfrm flipH="1">
            <a:off x="2866320" y="4426560"/>
            <a:ext cx="3134520" cy="6084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86" name="Picture 23" descr="C:\Documents and Settings\Donald\Desktop\listpablock.bmp"/>
          <p:cNvPicPr/>
          <p:nvPr/>
        </p:nvPicPr>
        <p:blipFill>
          <a:blip r:embed="rId2"/>
          <a:stretch/>
        </p:blipFill>
        <p:spPr>
          <a:xfrm>
            <a:off x="6238800" y="1805040"/>
            <a:ext cx="2600280" cy="2481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C:\Documents and Settings\Donald\Desktop\EWweek-TUTORIALBeginners\EW-img\selector.png"/>
          <p:cNvPicPr/>
          <p:nvPr/>
        </p:nvPicPr>
        <p:blipFill>
          <a:blip r:embed="rId3"/>
          <a:stretch/>
        </p:blipFill>
        <p:spPr>
          <a:xfrm>
            <a:off x="6510240" y="4552920"/>
            <a:ext cx="809640" cy="781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C:\Documents and Settings\Donald\Desktop\EWweek-TUTORIALBeginners\EW-img\audio.png"/>
          <p:cNvPicPr/>
          <p:nvPr/>
        </p:nvPicPr>
        <p:blipFill>
          <a:blip r:embed="rId4"/>
          <a:stretch/>
        </p:blipFill>
        <p:spPr>
          <a:xfrm>
            <a:off x="7839000" y="4657680"/>
            <a:ext cx="781200" cy="7430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8"/>
          <p:cNvSpPr/>
          <p:nvPr/>
        </p:nvSpPr>
        <p:spPr>
          <a:xfrm>
            <a:off x="6411960" y="4443480"/>
            <a:ext cx="2305080" cy="11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Review of specific catalogs (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Example</a:t>
            </a: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C:\Documents and Settings\Donald\Desktop\EWweek-TUTORIALBeginners\EW-img\mapping.png"/>
          <p:cNvPicPr/>
          <p:nvPr/>
        </p:nvPicPr>
        <p:blipFill>
          <a:blip r:embed="rId1"/>
          <a:stretch/>
        </p:blipFill>
        <p:spPr>
          <a:xfrm>
            <a:off x="898560" y="1338120"/>
            <a:ext cx="7531200" cy="44053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8"/>
          <p:cNvSpPr/>
          <p:nvPr/>
        </p:nvSpPr>
        <p:spPr>
          <a:xfrm>
            <a:off x="5011560" y="2014560"/>
            <a:ext cx="2703600" cy="250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EyesWeb XMI and Mobius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C:\Documents and Settings\Donald\My Documents\EW-mobius.bmp"/>
          <p:cNvPicPr/>
          <p:nvPr/>
        </p:nvPicPr>
        <p:blipFill>
          <a:blip r:embed="rId1"/>
          <a:stretch/>
        </p:blipFill>
        <p:spPr>
          <a:xfrm>
            <a:off x="1700280" y="12142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497" name="Rettangolo 7"/>
          <p:cNvSpPr/>
          <p:nvPr/>
        </p:nvSpPr>
        <p:spPr>
          <a:xfrm>
            <a:off x="1400040" y="564660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ing from an EyesWeb pat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EyesWeb XMI and Mobius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Immagine 1" descr="C:\Documents and Settings\Chiara\Documenti\affine-ok.bmp"/>
          <p:cNvPicPr/>
          <p:nvPr/>
        </p:nvPicPr>
        <p:blipFill>
          <a:blip r:embed="rId1"/>
          <a:stretch/>
        </p:blipFill>
        <p:spPr>
          <a:xfrm>
            <a:off x="1714680" y="1214280"/>
            <a:ext cx="6858000" cy="4071960"/>
          </a:xfrm>
          <a:prstGeom prst="rect">
            <a:avLst/>
          </a:prstGeom>
          <a:ln w="0">
            <a:noFill/>
          </a:ln>
        </p:spPr>
      </p:pic>
      <p:sp>
        <p:nvSpPr>
          <p:cNvPr id="501" name="Rettangolo 8"/>
          <p:cNvSpPr/>
          <p:nvPr/>
        </p:nvSpPr>
        <p:spPr>
          <a:xfrm>
            <a:off x="1743120" y="5560920"/>
            <a:ext cx="67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us interface can be used to create a user-friendly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8560" y="1014480"/>
            <a:ext cx="829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his tutorial is to be revised and updated continously. Don’t hesitate to send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feedback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or/and add some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lready think about adding slides about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mag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cessing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in-depth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cription of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he Expressive Gesture Librar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be included (you can already test numerous patch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inally, concrete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rtistic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scientific test-cas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realized with the EyesWeb platform will also be distributed and 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Keep in touch! |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onald Glowinski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February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9760" y="6480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nettore 1 11"/>
          <p:cNvSpPr/>
          <p:nvPr/>
        </p:nvSpPr>
        <p:spPr>
          <a:xfrm>
            <a:off x="571680" y="6215040"/>
            <a:ext cx="807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nettore 1 12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174680" y="934920"/>
            <a:ext cx="73454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yesWeb XMI (for eXtended Multimodal Interaction)  is 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ftware platform to support the developme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l-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ltimod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tribu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a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of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CI research (e.g., computational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rtistic production (e.g., multimodal interactive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apy &amp; rehab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74640" y="4849920"/>
            <a:ext cx="8242200" cy="642600"/>
          </a:xfrm>
          <a:prstGeom prst="rect">
            <a:avLst/>
          </a:prstGeom>
          <a:solidFill>
            <a:srgbClr val="9966cc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500280" y="3390840"/>
            <a:ext cx="1928880" cy="642600"/>
          </a:xfrm>
          <a:prstGeom prst="rect">
            <a:avLst/>
          </a:prstGeom>
          <a:solidFill>
            <a:srgbClr val="8eb4e3"/>
          </a:solidFill>
          <a:ln w="3168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786280" y="3105000"/>
            <a:ext cx="1571760" cy="1191240"/>
          </a:xfrm>
          <a:prstGeom prst="rect">
            <a:avLst/>
          </a:prstGeom>
          <a:solidFill>
            <a:srgbClr val="a6a6a6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00120" y="3105000"/>
            <a:ext cx="1571760" cy="1191240"/>
          </a:xfrm>
          <a:prstGeom prst="rect">
            <a:avLst/>
          </a:prstGeom>
          <a:solidFill>
            <a:srgbClr val="a6a6a6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 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500040" y="3819600"/>
            <a:ext cx="565200" cy="85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85840" y="281952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123" name="Line 7"/>
          <p:cNvSpPr/>
          <p:nvPr/>
        </p:nvSpPr>
        <p:spPr>
          <a:xfrm>
            <a:off x="1285920" y="3152880"/>
            <a:ext cx="214200" cy="5522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1065240" y="3697200"/>
            <a:ext cx="434880" cy="5558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858080" y="2533680"/>
            <a:ext cx="762120" cy="762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7786800" y="3817800"/>
            <a:ext cx="977760" cy="928800"/>
          </a:xfrm>
          <a:prstGeom prst="rect">
            <a:avLst/>
          </a:prstGeom>
          <a:ln w="0">
            <a:noFill/>
          </a:ln>
        </p:spPr>
      </p:pic>
      <p:sp>
        <p:nvSpPr>
          <p:cNvPr id="127" name="Line 11"/>
          <p:cNvSpPr/>
          <p:nvPr/>
        </p:nvSpPr>
        <p:spPr>
          <a:xfrm flipV="1">
            <a:off x="7358040" y="2906640"/>
            <a:ext cx="500040" cy="80640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7358040" y="3705120"/>
            <a:ext cx="414360" cy="40968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071880" y="3705120"/>
            <a:ext cx="428400" cy="97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429160" y="3696840"/>
            <a:ext cx="357120" cy="2556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2643120" y="1390680"/>
            <a:ext cx="1285920" cy="64260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4429080" y="1247760"/>
            <a:ext cx="2143080" cy="119124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tch Execu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00040" y="1390680"/>
            <a:ext cx="1714680" cy="64260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b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 flipH="1">
            <a:off x="4457880" y="2108160"/>
            <a:ext cx="3479760" cy="128268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 flipH="1">
            <a:off x="4457520" y="2448000"/>
            <a:ext cx="1050840" cy="9428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3286080" y="2036880"/>
            <a:ext cx="1177920" cy="135396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1357200" y="2036880"/>
            <a:ext cx="3106800" cy="135396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3286080" y="5605560"/>
            <a:ext cx="2357640" cy="642600"/>
          </a:xfrm>
          <a:prstGeom prst="rect">
            <a:avLst/>
          </a:prstGeom>
          <a:solidFill>
            <a:srgbClr val="376092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ata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H="1">
            <a:off x="4455720" y="4038480"/>
            <a:ext cx="17640" cy="15685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285920" y="5605560"/>
            <a:ext cx="1643040" cy="642600"/>
          </a:xfrm>
          <a:prstGeom prst="rect">
            <a:avLst/>
          </a:prstGeom>
          <a:solidFill>
            <a:srgbClr val="376092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2098440" y="4037040"/>
            <a:ext cx="2374920" cy="15685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5943600" y="5605560"/>
            <a:ext cx="2743200" cy="642600"/>
          </a:xfrm>
          <a:prstGeom prst="rect">
            <a:avLst/>
          </a:prstGeom>
          <a:solidFill>
            <a:srgbClr val="376092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rd-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4465800" y="4037040"/>
            <a:ext cx="2643120" cy="15685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6858000" y="1461960"/>
            <a:ext cx="2057400" cy="64260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139760" y="65160"/>
            <a:ext cx="750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nettore 1 31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674640" y="4849920"/>
            <a:ext cx="8242200" cy="642600"/>
          </a:xfrm>
          <a:prstGeom prst="rect">
            <a:avLst/>
          </a:prstGeom>
          <a:solidFill>
            <a:srgbClr val="9966cc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500280" y="3390840"/>
            <a:ext cx="1928880" cy="642600"/>
          </a:xfrm>
          <a:prstGeom prst="rect">
            <a:avLst/>
          </a:prstGeom>
          <a:solidFill>
            <a:srgbClr val="8eb4e3"/>
          </a:solidFill>
          <a:ln w="3168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786280" y="3105000"/>
            <a:ext cx="1571760" cy="1191240"/>
          </a:xfrm>
          <a:prstGeom prst="rect">
            <a:avLst/>
          </a:prstGeom>
          <a:solidFill>
            <a:srgbClr val="a6a6a6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00120" y="3105000"/>
            <a:ext cx="1571760" cy="1191240"/>
          </a:xfrm>
          <a:prstGeom prst="rect">
            <a:avLst/>
          </a:prstGeom>
          <a:solidFill>
            <a:srgbClr val="a6a6a6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 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00040" y="3819600"/>
            <a:ext cx="565200" cy="850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85840" y="281952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153" name="Line 7"/>
          <p:cNvSpPr/>
          <p:nvPr/>
        </p:nvSpPr>
        <p:spPr>
          <a:xfrm>
            <a:off x="1285920" y="3152880"/>
            <a:ext cx="214200" cy="5522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 flipV="1">
            <a:off x="1065240" y="3697200"/>
            <a:ext cx="434880" cy="5558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7858080" y="2533680"/>
            <a:ext cx="762120" cy="762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786800" y="3817800"/>
            <a:ext cx="977760" cy="9288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 flipV="1">
            <a:off x="7358040" y="2906640"/>
            <a:ext cx="500040" cy="80640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7358040" y="3705120"/>
            <a:ext cx="414360" cy="40968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3071880" y="3705120"/>
            <a:ext cx="428400" cy="97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5429160" y="3696840"/>
            <a:ext cx="357120" cy="2556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643120" y="1390680"/>
            <a:ext cx="1285920" cy="64260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4429080" y="1247760"/>
            <a:ext cx="2143080" cy="119124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tch Execu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500040" y="1390680"/>
            <a:ext cx="1714680" cy="64260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b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457880" y="2108160"/>
            <a:ext cx="3479760" cy="128268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 flipH="1">
            <a:off x="4457520" y="2448000"/>
            <a:ext cx="1050840" cy="94284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3286080" y="2036880"/>
            <a:ext cx="1177920" cy="135396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1357200" y="2036880"/>
            <a:ext cx="3106800" cy="135396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3286080" y="5605560"/>
            <a:ext cx="2357640" cy="642600"/>
          </a:xfrm>
          <a:prstGeom prst="rect">
            <a:avLst/>
          </a:prstGeom>
          <a:solidFill>
            <a:srgbClr val="376092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ata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H="1">
            <a:off x="4455720" y="4038480"/>
            <a:ext cx="17640" cy="15685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1285920" y="5605560"/>
            <a:ext cx="1643040" cy="642600"/>
          </a:xfrm>
          <a:prstGeom prst="rect">
            <a:avLst/>
          </a:prstGeom>
          <a:solidFill>
            <a:srgbClr val="376092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H="1">
            <a:off x="2098440" y="4037040"/>
            <a:ext cx="2374920" cy="15685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5943600" y="5605560"/>
            <a:ext cx="2743200" cy="642600"/>
          </a:xfrm>
          <a:prstGeom prst="rect">
            <a:avLst/>
          </a:prstGeom>
          <a:solidFill>
            <a:srgbClr val="376092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rd-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8"/>
          <p:cNvSpPr/>
          <p:nvPr/>
        </p:nvSpPr>
        <p:spPr>
          <a:xfrm>
            <a:off x="4465800" y="4037040"/>
            <a:ext cx="2643120" cy="1568520"/>
          </a:xfrm>
          <a:prstGeom prst="line">
            <a:avLst/>
          </a:prstGeom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6858000" y="1461960"/>
            <a:ext cx="2057400" cy="642600"/>
          </a:xfrm>
          <a:prstGeom prst="rect">
            <a:avLst/>
          </a:prstGeom>
          <a:solidFill>
            <a:srgbClr val="00b050"/>
          </a:solidFill>
          <a:ln w="93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e 30"/>
          <p:cNvSpPr/>
          <p:nvPr/>
        </p:nvSpPr>
        <p:spPr>
          <a:xfrm>
            <a:off x="2443320" y="1109520"/>
            <a:ext cx="1768320" cy="1303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ttangolo arrotondato 33"/>
          <p:cNvSpPr/>
          <p:nvPr/>
        </p:nvSpPr>
        <p:spPr>
          <a:xfrm>
            <a:off x="2459160" y="1123920"/>
            <a:ext cx="1633320" cy="1139760"/>
          </a:xfrm>
          <a:prstGeom prst="roundRect">
            <a:avLst>
              <a:gd name="adj" fmla="val 44704"/>
            </a:avLst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tangolo arrotondato 34"/>
          <p:cNvSpPr/>
          <p:nvPr/>
        </p:nvSpPr>
        <p:spPr>
          <a:xfrm>
            <a:off x="1393920" y="2881440"/>
            <a:ext cx="1771560" cy="1676160"/>
          </a:xfrm>
          <a:prstGeom prst="roundRect">
            <a:avLst>
              <a:gd name="adj" fmla="val 44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tangolo arrotondato 35"/>
          <p:cNvSpPr/>
          <p:nvPr/>
        </p:nvSpPr>
        <p:spPr>
          <a:xfrm>
            <a:off x="5638680" y="2868480"/>
            <a:ext cx="1771920" cy="1676520"/>
          </a:xfrm>
          <a:prstGeom prst="roundRect">
            <a:avLst>
              <a:gd name="adj" fmla="val 44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tangolo arrotondato 36"/>
          <p:cNvSpPr/>
          <p:nvPr/>
        </p:nvSpPr>
        <p:spPr>
          <a:xfrm>
            <a:off x="1189080" y="5456160"/>
            <a:ext cx="1771560" cy="988920"/>
          </a:xfrm>
          <a:prstGeom prst="roundRect">
            <a:avLst>
              <a:gd name="adj" fmla="val 44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tangolo arrotondato 37"/>
          <p:cNvSpPr/>
          <p:nvPr/>
        </p:nvSpPr>
        <p:spPr>
          <a:xfrm>
            <a:off x="3200400" y="5429160"/>
            <a:ext cx="2556000" cy="989280"/>
          </a:xfrm>
          <a:prstGeom prst="roundRect">
            <a:avLst>
              <a:gd name="adj" fmla="val 44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arrotondato 38"/>
          <p:cNvSpPr/>
          <p:nvPr/>
        </p:nvSpPr>
        <p:spPr>
          <a:xfrm>
            <a:off x="6770520" y="1309680"/>
            <a:ext cx="2556000" cy="988920"/>
          </a:xfrm>
          <a:prstGeom prst="roundRect">
            <a:avLst>
              <a:gd name="adj" fmla="val 44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139760" y="65160"/>
            <a:ext cx="750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nettore 1 38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09640" y="1614600"/>
            <a:ext cx="775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yesWeb GDE is used to produc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ch is a structured network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oc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at channels and manipulates a digit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ataflow, resulting in a desir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ata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39760" y="65160"/>
            <a:ext cx="800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Graphical Development Environment (G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ttore 1 5"/>
          <p:cNvSpPr/>
          <p:nvPr/>
        </p:nvSpPr>
        <p:spPr>
          <a:xfrm flipV="1">
            <a:off x="1224000" y="612360"/>
            <a:ext cx="6210360" cy="17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947880" y="3962520"/>
            <a:ext cx="5346720" cy="26510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431040" y="5724360"/>
            <a:ext cx="2712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yesWeb 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2:16:10Z</dcterms:created>
  <dc:creator>Donald</dc:creator>
  <dc:description/>
  <dc:language>en-US</dc:language>
  <cp:lastModifiedBy>Donald</cp:lastModifiedBy>
  <dcterms:modified xsi:type="dcterms:W3CDTF">2010-02-18T19:37:59Z</dcterms:modified>
  <cp:revision>1640</cp:revision>
  <dc:subject/>
  <dc:title>Interactive Technology with EyesWeb 4.0</dc:title>
</cp:coreProperties>
</file>